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7A0-0AD5-4B27-AEAC-12335B5E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ACD-97EC-4468-B213-D20512B9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56E-8ED4-46FC-9D7E-79AEDF75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D79-1A28-461F-BF24-DAB0EFC2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3E16-12FD-4B68-9919-DD7D4553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D1AE-1198-4040-BB86-0516FA8A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2A57-3663-47CC-BA82-4FF8639F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14DD-229E-4B6C-9626-4016D550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8861-97EB-4A3B-A9FF-12EE2CE1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863D-E09E-4196-8B3A-F5DE0F8A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E82E-6C33-4993-9461-9CBC6196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181-5699-4A00-A7A9-B995F7A8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B74D-4D1D-44A1-9939-B47BBAB4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7F12-332C-48EC-B988-26A68A7D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4659-9D00-48C9-A6DB-5A87D8EC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CEB7-605B-4C8F-8040-C2B353B0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71EC-141C-4EA1-A529-2CDC5535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FC2-0AA0-4DC1-9F0E-3CA8610D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C48-CF38-4CD2-8B95-5D53F791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8C8-E0BA-473B-9C1A-41DFE0B7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C5B-C407-4A6A-8F04-F0CEA4D2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C36-4970-4A06-9A9D-E4629B2E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095-57CB-461C-9676-0F355039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6C6-FC39-4B1B-A97C-8C38F53F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951C-244A-41FB-8FCC-A77AFF6AE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A138-11E7-4612-910E-8CEAE55BB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e On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51814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5410080"/>
            <a:ext cx="383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518080" y="1994040"/>
            <a:ext cx="1644840" cy="1644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108400" y="5375160"/>
            <a:ext cx="38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mal Somatic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010280" y="3505320"/>
            <a:ext cx="16448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 Different Kind of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25780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 of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5256360"/>
            <a:ext cx="51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oductive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=23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loid (game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4952880"/>
            <a:ext cx="7467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ertil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467480" cy="3627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4952880"/>
            <a:ext cx="2514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29920" y="5092560"/>
            <a:ext cx="2157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yg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iploid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876920"/>
            <a:ext cx="4724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98760" y="528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029200"/>
            <a:ext cx="4343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aploid)       (haploid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44640" y="432756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 Different Kind of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32" name=""/>
          <p:cNvGrpSpPr/>
          <p:nvPr/>
        </p:nvGrpSpPr>
        <p:grpSpPr>
          <a:xfrm>
            <a:off x="2637360" y="2034360"/>
            <a:ext cx="2117520" cy="1975680"/>
            <a:chOff x="2637360" y="2034360"/>
            <a:chExt cx="2117520" cy="1975680"/>
          </a:xfrm>
        </p:grpSpPr>
        <p:sp>
          <p:nvSpPr>
            <p:cNvPr id="233" name="_s21601"/>
            <p:cNvSpPr/>
            <p:nvPr/>
          </p:nvSpPr>
          <p:spPr>
            <a:xfrm>
              <a:off x="3134520" y="203436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21602"/>
            <p:cNvSpPr/>
            <p:nvPr/>
          </p:nvSpPr>
          <p:spPr>
            <a:xfrm rot="4320000">
              <a:off x="3506400" y="226944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21629"/>
            <p:cNvSpPr/>
            <p:nvPr/>
          </p:nvSpPr>
          <p:spPr>
            <a:xfrm rot="8640000">
              <a:off x="3355200" y="269244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21603"/>
            <p:cNvSpPr/>
            <p:nvPr/>
          </p:nvSpPr>
          <p:spPr>
            <a:xfrm rot="12960000">
              <a:off x="2914200" y="269280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21604"/>
            <p:cNvSpPr/>
            <p:nvPr/>
          </p:nvSpPr>
          <p:spPr>
            <a:xfrm rot="17280000">
              <a:off x="2793960" y="227016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21605"/>
            <p:cNvSpPr/>
            <p:nvPr/>
          </p:nvSpPr>
          <p:spPr>
            <a:xfrm>
              <a:off x="3983760" y="20804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21606"/>
            <p:cNvSpPr/>
            <p:nvPr/>
          </p:nvSpPr>
          <p:spPr>
            <a:xfrm>
              <a:off x="2688840" y="29966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21607"/>
            <p:cNvSpPr/>
            <p:nvPr/>
          </p:nvSpPr>
          <p:spPr>
            <a:xfrm>
              <a:off x="2994120" y="208116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21608"/>
            <p:cNvSpPr/>
            <p:nvPr/>
          </p:nvSpPr>
          <p:spPr>
            <a:xfrm>
              <a:off x="4290480" y="299520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21628"/>
            <p:cNvSpPr/>
            <p:nvPr/>
          </p:nvSpPr>
          <p:spPr>
            <a:xfrm>
              <a:off x="3490200" y="35614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15238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837760" y="1958400"/>
            <a:ext cx="2117520" cy="1975320"/>
            <a:chOff x="5837760" y="1958400"/>
            <a:chExt cx="2117520" cy="1975320"/>
          </a:xfrm>
        </p:grpSpPr>
        <p:sp>
          <p:nvSpPr>
            <p:cNvPr id="245" name="_s21612"/>
            <p:cNvSpPr/>
            <p:nvPr/>
          </p:nvSpPr>
          <p:spPr>
            <a:xfrm>
              <a:off x="6334920" y="195840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21613"/>
            <p:cNvSpPr/>
            <p:nvPr/>
          </p:nvSpPr>
          <p:spPr>
            <a:xfrm rot="4320000">
              <a:off x="6706800" y="219348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21631"/>
            <p:cNvSpPr/>
            <p:nvPr/>
          </p:nvSpPr>
          <p:spPr>
            <a:xfrm rot="8640000">
              <a:off x="6555600" y="261648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21614"/>
            <p:cNvSpPr/>
            <p:nvPr/>
          </p:nvSpPr>
          <p:spPr>
            <a:xfrm rot="12960000">
              <a:off x="6114600" y="261648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21615"/>
            <p:cNvSpPr/>
            <p:nvPr/>
          </p:nvSpPr>
          <p:spPr>
            <a:xfrm rot="17280000">
              <a:off x="5994360" y="219420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21616"/>
            <p:cNvSpPr/>
            <p:nvPr/>
          </p:nvSpPr>
          <p:spPr>
            <a:xfrm>
              <a:off x="7184160" y="20044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21617"/>
            <p:cNvSpPr/>
            <p:nvPr/>
          </p:nvSpPr>
          <p:spPr>
            <a:xfrm>
              <a:off x="5889240" y="29206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21618"/>
            <p:cNvSpPr/>
            <p:nvPr/>
          </p:nvSpPr>
          <p:spPr>
            <a:xfrm>
              <a:off x="6194520" y="200520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21619"/>
            <p:cNvSpPr/>
            <p:nvPr/>
          </p:nvSpPr>
          <p:spPr>
            <a:xfrm>
              <a:off x="7490880" y="29192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21630"/>
            <p:cNvSpPr/>
            <p:nvPr/>
          </p:nvSpPr>
          <p:spPr>
            <a:xfrm>
              <a:off x="6690600" y="348516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77800" y="3747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ei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66360" y="4191120"/>
            <a:ext cx="238428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osis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o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28280" y="4191120"/>
            <a:ext cx="25045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osis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o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Meiosis I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82160" y="458640"/>
            <a:ext cx="1586160" cy="2394720"/>
            <a:chOff x="182160" y="458640"/>
            <a:chExt cx="1586160" cy="2394720"/>
          </a:xfrm>
        </p:grpSpPr>
        <p:sp>
          <p:nvSpPr>
            <p:cNvPr id="263" name=""/>
            <p:cNvSpPr/>
            <p:nvPr/>
          </p:nvSpPr>
          <p:spPr>
            <a:xfrm>
              <a:off x="244440" y="83808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9360" y="2500200"/>
              <a:ext cx="129168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Interphas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9480" y="1295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49494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160" y="458640"/>
              <a:ext cx="13266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Mother cel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505320" y="4495680"/>
            <a:ext cx="2239920" cy="1295640"/>
            <a:chOff x="3505320" y="4495680"/>
            <a:chExt cx="2239920" cy="1295640"/>
          </a:xfrm>
        </p:grpSpPr>
        <p:sp>
          <p:nvSpPr>
            <p:cNvPr id="268" name=""/>
            <p:cNvSpPr/>
            <p:nvPr/>
          </p:nvSpPr>
          <p:spPr>
            <a:xfrm>
              <a:off x="4648320" y="4495680"/>
              <a:ext cx="109692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5320" y="4495680"/>
              <a:ext cx="109692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021200" y="4873320"/>
              <a:ext cx="167760" cy="658440"/>
              <a:chOff x="4021200" y="4873320"/>
              <a:chExt cx="167760" cy="658440"/>
            </a:xfrm>
          </p:grpSpPr>
          <p:sp>
            <p:nvSpPr>
              <p:cNvPr id="271" name=""/>
              <p:cNvSpPr/>
              <p:nvPr/>
            </p:nvSpPr>
            <p:spPr>
              <a:xfrm flipH="1" flipV="1" rot="21345600">
                <a:off x="4098960" y="5057280"/>
                <a:ext cx="7164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609600">
                <a:off x="4104720" y="487692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 rot="254400">
                <a:off x="4038480" y="5061240"/>
                <a:ext cx="7164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0990400">
                <a:off x="4043160" y="487980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76640" y="506232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016240" y="4949280"/>
              <a:ext cx="159120" cy="418680"/>
              <a:chOff x="5016240" y="4949280"/>
              <a:chExt cx="159120" cy="418680"/>
            </a:xfrm>
          </p:grpSpPr>
          <p:sp>
            <p:nvSpPr>
              <p:cNvPr id="277" name=""/>
              <p:cNvSpPr/>
              <p:nvPr/>
            </p:nvSpPr>
            <p:spPr>
              <a:xfrm flipH="1" flipV="1" rot="21178800">
                <a:off x="5088960" y="514836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384600">
                <a:off x="5088960" y="495252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421200">
                <a:off x="5028840" y="51483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1215400">
                <a:off x="5028840" y="495576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067360" y="512460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164200" y="4873320"/>
              <a:ext cx="167760" cy="658440"/>
              <a:chOff x="5164200" y="4873320"/>
              <a:chExt cx="167760" cy="658440"/>
            </a:xfrm>
          </p:grpSpPr>
          <p:sp>
            <p:nvSpPr>
              <p:cNvPr id="283" name=""/>
              <p:cNvSpPr/>
              <p:nvPr/>
            </p:nvSpPr>
            <p:spPr>
              <a:xfrm flipH="1" flipV="1" rot="21345600">
                <a:off x="5243040" y="5057280"/>
                <a:ext cx="7128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609600">
                <a:off x="5247720" y="487692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 rot="254400">
                <a:off x="5181840" y="5061240"/>
                <a:ext cx="7128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0990400">
                <a:off x="5186160" y="4879800"/>
                <a:ext cx="65160" cy="223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19640" y="5062320"/>
                <a:ext cx="61920" cy="43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873240" y="4949280"/>
              <a:ext cx="158760" cy="418320"/>
              <a:chOff x="3873240" y="4949280"/>
              <a:chExt cx="158760" cy="418320"/>
            </a:xfrm>
          </p:grpSpPr>
          <p:sp>
            <p:nvSpPr>
              <p:cNvPr id="289" name=""/>
              <p:cNvSpPr/>
              <p:nvPr/>
            </p:nvSpPr>
            <p:spPr>
              <a:xfrm flipH="1" flipV="1" rot="21178800">
                <a:off x="3945600" y="514728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384600">
                <a:off x="3945600" y="495252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 rot="421200">
                <a:off x="3885840" y="5147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1215400">
                <a:off x="3885840" y="49557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24360" y="512424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174600" y="4832640"/>
            <a:ext cx="3316680" cy="1078920"/>
            <a:chOff x="174600" y="4832640"/>
            <a:chExt cx="3316680" cy="1078920"/>
          </a:xfrm>
        </p:grpSpPr>
        <p:sp>
          <p:nvSpPr>
            <p:cNvPr id="295" name=""/>
            <p:cNvSpPr/>
            <p:nvPr/>
          </p:nvSpPr>
          <p:spPr>
            <a:xfrm>
              <a:off x="174600" y="5359320"/>
              <a:ext cx="121860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e5ffff"/>
                  </a:solidFill>
                  <a:latin typeface="Tahoma"/>
                </a:rPr>
                <a:t>Meiosis II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0995200">
              <a:off x="1980720" y="4952880"/>
              <a:ext cx="1447920" cy="838440"/>
            </a:xfrm>
            <a:prstGeom prst="leftArrow">
              <a:avLst>
                <a:gd name="adj1" fmla="val 50000"/>
                <a:gd name="adj2" fmla="val 43173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9900cc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505320" y="1371600"/>
            <a:ext cx="2209680" cy="2532240"/>
            <a:chOff x="3505320" y="1371600"/>
            <a:chExt cx="2209680" cy="2532240"/>
          </a:xfrm>
        </p:grpSpPr>
        <p:sp>
          <p:nvSpPr>
            <p:cNvPr id="298" name=""/>
            <p:cNvSpPr/>
            <p:nvPr/>
          </p:nvSpPr>
          <p:spPr>
            <a:xfrm>
              <a:off x="3886200" y="3032280"/>
              <a:ext cx="1828800" cy="871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cc00"/>
                  </a:solidFill>
                  <a:latin typeface="Tahoma"/>
                </a:rPr>
                <a:t>Tetrad </a:t>
              </a: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form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1447920"/>
              <a:ext cx="1524240" cy="167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420080" y="2250360"/>
              <a:ext cx="381600" cy="654120"/>
              <a:chOff x="4420080" y="2250360"/>
              <a:chExt cx="381600" cy="654120"/>
            </a:xfrm>
          </p:grpSpPr>
          <p:sp>
            <p:nvSpPr>
              <p:cNvPr id="301" name=""/>
              <p:cNvSpPr/>
              <p:nvPr/>
            </p:nvSpPr>
            <p:spPr>
              <a:xfrm flipH="1" flipV="1" rot="984600">
                <a:off x="4574520" y="2433240"/>
                <a:ext cx="71640" cy="4705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848600">
                <a:off x="4686120" y="22726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 rot="1492800">
                <a:off x="4515120" y="241560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29400">
                <a:off x="4627800" y="22543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239000">
                <a:off x="4626000" y="244188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682160" y="1676520"/>
              <a:ext cx="372240" cy="411480"/>
              <a:chOff x="4682160" y="1676520"/>
              <a:chExt cx="372240" cy="411480"/>
            </a:xfrm>
          </p:grpSpPr>
          <p:sp>
            <p:nvSpPr>
              <p:cNvPr id="307" name=""/>
              <p:cNvSpPr/>
              <p:nvPr/>
            </p:nvSpPr>
            <p:spPr>
              <a:xfrm flipH="1" flipV="1" rot="18853800">
                <a:off x="4914720" y="183096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9659000">
                <a:off x="4792680" y="167904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 rot="19696200">
                <a:off x="4867560" y="186804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8890400">
                <a:off x="4747680" y="171864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75000">
                <a:off x="4830120" y="1848960"/>
                <a:ext cx="6156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529520" y="2287800"/>
              <a:ext cx="366120" cy="655200"/>
              <a:chOff x="4529520" y="2287800"/>
              <a:chExt cx="366120" cy="655200"/>
            </a:xfrm>
          </p:grpSpPr>
          <p:sp>
            <p:nvSpPr>
              <p:cNvPr id="313" name=""/>
              <p:cNvSpPr/>
              <p:nvPr/>
            </p:nvSpPr>
            <p:spPr>
              <a:xfrm flipH="1" flipV="1" rot="889200">
                <a:off x="4679280" y="247104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1753200">
                <a:off x="4782600" y="230760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 rot="1398000">
                <a:off x="4619160" y="24555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34000">
                <a:off x="4723560" y="2291400"/>
                <a:ext cx="651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143600">
                <a:off x="4725000" y="2478960"/>
                <a:ext cx="6156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753800" y="1603440"/>
              <a:ext cx="381600" cy="405000"/>
              <a:chOff x="4753800" y="1603440"/>
              <a:chExt cx="381600" cy="405000"/>
            </a:xfrm>
          </p:grpSpPr>
          <p:sp>
            <p:nvSpPr>
              <p:cNvPr id="319" name=""/>
              <p:cNvSpPr/>
              <p:nvPr/>
            </p:nvSpPr>
            <p:spPr>
              <a:xfrm flipH="1" flipV="1" rot="18693600">
                <a:off x="4993560" y="174996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19499400">
                <a:off x="4864320" y="16045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 rot="19536000">
                <a:off x="4948200" y="1790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730200">
                <a:off x="4821480" y="1646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114800">
                <a:off x="4906080" y="1773000"/>
                <a:ext cx="61920" cy="44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505320" y="1371600"/>
              <a:ext cx="83808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0080" y="1676520"/>
            <a:ext cx="2073240" cy="2091240"/>
            <a:chOff x="5410080" y="1676520"/>
            <a:chExt cx="2073240" cy="2091240"/>
          </a:xfrm>
        </p:grpSpPr>
        <p:sp>
          <p:nvSpPr>
            <p:cNvPr id="326" name=""/>
            <p:cNvSpPr/>
            <p:nvPr/>
          </p:nvSpPr>
          <p:spPr>
            <a:xfrm>
              <a:off x="5757120" y="3414600"/>
              <a:ext cx="149904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Metaphase I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959440" y="1752480"/>
              <a:ext cx="1523880" cy="1676520"/>
              <a:chOff x="5959440" y="1752480"/>
              <a:chExt cx="1523880" cy="1676520"/>
            </a:xfrm>
          </p:grpSpPr>
          <p:sp>
            <p:nvSpPr>
              <p:cNvPr id="328" name=""/>
              <p:cNvSpPr/>
              <p:nvPr/>
            </p:nvSpPr>
            <p:spPr>
              <a:xfrm>
                <a:off x="5959440" y="1752480"/>
                <a:ext cx="1523880" cy="167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567840" y="2047320"/>
                <a:ext cx="258480" cy="1240560"/>
                <a:chOff x="6567840" y="2047320"/>
                <a:chExt cx="258480" cy="1240560"/>
              </a:xfrm>
            </p:grpSpPr>
            <p:grpSp>
              <p:nvGrpSpPr>
                <p:cNvPr id="330" name=""/>
                <p:cNvGrpSpPr/>
                <p:nvPr/>
              </p:nvGrpSpPr>
              <p:grpSpPr>
                <a:xfrm>
                  <a:off x="6567840" y="2628360"/>
                  <a:ext cx="167400" cy="659520"/>
                  <a:chOff x="6567840" y="2628360"/>
                  <a:chExt cx="167400" cy="6595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flipH="1" flipV="1" rot="21345600">
                    <a:off x="6646320" y="281196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609600">
                    <a:off x="6651000" y="2631960"/>
                    <a:ext cx="615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V="1" rot="254400">
                    <a:off x="6585480" y="281664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20990400">
                    <a:off x="6589440" y="2635200"/>
                    <a:ext cx="6480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622920" y="2817720"/>
                    <a:ext cx="61560" cy="446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667200" y="2047320"/>
                  <a:ext cx="159120" cy="418680"/>
                  <a:chOff x="6667200" y="2047320"/>
                  <a:chExt cx="159120" cy="4186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1178800">
                    <a:off x="6739920" y="2246400"/>
                    <a:ext cx="727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rot="384600">
                    <a:off x="6739920" y="2050560"/>
                    <a:ext cx="7272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 rot="421200">
                    <a:off x="6679800" y="2246400"/>
                    <a:ext cx="745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21215400">
                    <a:off x="6679800" y="2053800"/>
                    <a:ext cx="74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718320" y="2222640"/>
                    <a:ext cx="61920" cy="4428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643800" y="2628360"/>
                  <a:ext cx="167760" cy="659520"/>
                  <a:chOff x="6643800" y="2628360"/>
                  <a:chExt cx="167760" cy="65952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H="1" flipV="1" rot="21345600">
                    <a:off x="6722640" y="281196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rot="609600">
                    <a:off x="6727320" y="2631960"/>
                    <a:ext cx="6192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 rot="254400">
                    <a:off x="6661440" y="281664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0990400">
                    <a:off x="6665760" y="2635200"/>
                    <a:ext cx="6516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699240" y="2817720"/>
                    <a:ext cx="61920" cy="442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590880" y="2047320"/>
                  <a:ext cx="158760" cy="418320"/>
                  <a:chOff x="6590880" y="2047320"/>
                  <a:chExt cx="158760" cy="4183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flipV="1" rot="21178800">
                    <a:off x="6663240" y="2245320"/>
                    <a:ext cx="730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384600">
                    <a:off x="6663240" y="2050560"/>
                    <a:ext cx="7308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 rot="421200">
                    <a:off x="6603480" y="2245320"/>
                    <a:ext cx="74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21215400">
                    <a:off x="6603480" y="2053800"/>
                    <a:ext cx="745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642000" y="2222280"/>
                    <a:ext cx="61920" cy="442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4" name=""/>
              <p:cNvGrpSpPr/>
              <p:nvPr/>
            </p:nvGrpSpPr>
            <p:grpSpPr>
              <a:xfrm>
                <a:off x="6067440" y="1924200"/>
                <a:ext cx="1266840" cy="1352520"/>
                <a:chOff x="6067440" y="1924200"/>
                <a:chExt cx="1266840" cy="13525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096240" y="2590920"/>
                  <a:ext cx="1212840" cy="442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096240" y="2460600"/>
                  <a:ext cx="1199880" cy="4752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67440" y="2892600"/>
                  <a:ext cx="1266840" cy="38412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077160" y="1924200"/>
                  <a:ext cx="1251000" cy="31428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099120" y="2670120"/>
                  <a:ext cx="1203480" cy="18432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096240" y="2243160"/>
                  <a:ext cx="1209600" cy="19368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099120" y="2068560"/>
                  <a:ext cx="1209960" cy="2682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083280" y="2765520"/>
                  <a:ext cx="1233720" cy="3016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"/>
            <p:cNvSpPr/>
            <p:nvPr/>
          </p:nvSpPr>
          <p:spPr>
            <a:xfrm>
              <a:off x="5410080" y="1676520"/>
              <a:ext cx="83844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600200" y="1066680"/>
            <a:ext cx="2209680" cy="2532240"/>
            <a:chOff x="1600200" y="1066680"/>
            <a:chExt cx="2209680" cy="2532240"/>
          </a:xfrm>
        </p:grpSpPr>
        <p:sp>
          <p:nvSpPr>
            <p:cNvPr id="365" name=""/>
            <p:cNvSpPr/>
            <p:nvPr/>
          </p:nvSpPr>
          <p:spPr>
            <a:xfrm>
              <a:off x="1981080" y="2727360"/>
              <a:ext cx="1828800" cy="871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Condensing Chromosom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133720" y="1143000"/>
              <a:ext cx="1523880" cy="1676160"/>
              <a:chOff x="2133720" y="1143000"/>
              <a:chExt cx="1523880" cy="1676160"/>
            </a:xfrm>
          </p:grpSpPr>
          <p:sp>
            <p:nvSpPr>
              <p:cNvPr id="367" name=""/>
              <p:cNvSpPr/>
              <p:nvPr/>
            </p:nvSpPr>
            <p:spPr>
              <a:xfrm>
                <a:off x="2133720" y="1143000"/>
                <a:ext cx="152388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2530080" y="1751760"/>
                <a:ext cx="379800" cy="660240"/>
                <a:chOff x="2530080" y="1751760"/>
                <a:chExt cx="379800" cy="660240"/>
              </a:xfrm>
            </p:grpSpPr>
            <p:sp>
              <p:nvSpPr>
                <p:cNvPr id="369" name=""/>
                <p:cNvSpPr/>
                <p:nvPr/>
              </p:nvSpPr>
              <p:spPr>
                <a:xfrm flipH="1" flipV="1" rot="20097600">
                  <a:off x="2741760" y="1915920"/>
                  <a:ext cx="71640" cy="4705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rot="20961000">
                  <a:off x="2639160" y="1755360"/>
                  <a:ext cx="6192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 rot="20605800">
                  <a:off x="2685600" y="1942200"/>
                  <a:ext cx="7164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9741800">
                  <a:off x="2582640" y="17798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20351400">
                  <a:off x="2646720" y="1945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2777760" y="1368000"/>
                <a:ext cx="159120" cy="418320"/>
                <a:chOff x="2777760" y="1368000"/>
                <a:chExt cx="159120" cy="418320"/>
              </a:xfrm>
            </p:grpSpPr>
            <p:sp>
              <p:nvSpPr>
                <p:cNvPr id="375" name=""/>
                <p:cNvSpPr/>
                <p:nvPr/>
              </p:nvSpPr>
              <p:spPr>
                <a:xfrm flipH="1" flipV="1" rot="21178800">
                  <a:off x="2850480" y="15660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rot="384600">
                  <a:off x="2850480" y="137124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 rot="421200">
                  <a:off x="2790360" y="156600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21215400">
                  <a:off x="2790360" y="137412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828880" y="15429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37520" y="1830240"/>
                <a:ext cx="366120" cy="655200"/>
                <a:chOff x="2837520" y="1830240"/>
                <a:chExt cx="366120" cy="655200"/>
              </a:xfrm>
            </p:grpSpPr>
            <p:sp>
              <p:nvSpPr>
                <p:cNvPr id="381" name=""/>
                <p:cNvSpPr/>
                <p:nvPr/>
              </p:nvSpPr>
              <p:spPr>
                <a:xfrm flipH="1" flipV="1" rot="889200">
                  <a:off x="2986920" y="201420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rot="1753200">
                  <a:off x="3090600" y="185076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 rot="1398000">
                  <a:off x="2927160" y="1997280"/>
                  <a:ext cx="7128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534000">
                  <a:off x="3031200" y="18338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143600">
                  <a:off x="3033000" y="2021400"/>
                  <a:ext cx="6156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2928240" y="1527120"/>
                <a:ext cx="381600" cy="405000"/>
                <a:chOff x="2928240" y="1527120"/>
                <a:chExt cx="381600" cy="405000"/>
              </a:xfrm>
            </p:grpSpPr>
            <p:sp>
              <p:nvSpPr>
                <p:cNvPr id="387" name=""/>
                <p:cNvSpPr/>
                <p:nvPr/>
              </p:nvSpPr>
              <p:spPr>
                <a:xfrm flipH="1" flipV="1" rot="18693600">
                  <a:off x="3168000" y="167364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19499400">
                  <a:off x="3038760" y="15282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 rot="19536000">
                  <a:off x="3122640" y="17139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8730200">
                  <a:off x="2995920" y="15699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9114800">
                  <a:off x="3080520" y="169668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2517840" y="1371600"/>
                <a:ext cx="819000" cy="1108080"/>
              </a:xfrm>
              <a:prstGeom prst="ellipse">
                <a:avLst/>
              </a:prstGeom>
              <a:noFill/>
              <a:ln cap="rnd" w="12600">
                <a:solidFill>
                  <a:srgbClr val="0033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1600200" y="1066680"/>
              <a:ext cx="838080" cy="1526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453720" y="2057400"/>
            <a:ext cx="2498040" cy="3920400"/>
            <a:chOff x="6453720" y="2057400"/>
            <a:chExt cx="2498040" cy="3920400"/>
          </a:xfrm>
        </p:grpSpPr>
        <p:sp>
          <p:nvSpPr>
            <p:cNvPr id="395" name=""/>
            <p:cNvSpPr/>
            <p:nvPr/>
          </p:nvSpPr>
          <p:spPr>
            <a:xfrm>
              <a:off x="6453720" y="5624640"/>
              <a:ext cx="137556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Anaphase I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6553080" y="3962520"/>
              <a:ext cx="1524240" cy="1676160"/>
              <a:chOff x="6553080" y="3962520"/>
              <a:chExt cx="1524240" cy="1676160"/>
            </a:xfrm>
          </p:grpSpPr>
          <p:sp>
            <p:nvSpPr>
              <p:cNvPr id="397" name=""/>
              <p:cNvSpPr/>
              <p:nvPr/>
            </p:nvSpPr>
            <p:spPr>
              <a:xfrm>
                <a:off x="6553080" y="3962520"/>
                <a:ext cx="152424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6661080" y="4133880"/>
                <a:ext cx="1266840" cy="1352520"/>
                <a:chOff x="6661080" y="4133880"/>
                <a:chExt cx="1266840" cy="13525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6689880" y="4800600"/>
                  <a:ext cx="1212840" cy="442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689880" y="4670280"/>
                  <a:ext cx="1199880" cy="4752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661080" y="5102280"/>
                  <a:ext cx="1266840" cy="38412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670800" y="4133880"/>
                  <a:ext cx="1251000" cy="31428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692760" y="4879800"/>
                  <a:ext cx="1203480" cy="18432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89880" y="4452840"/>
                  <a:ext cx="1209600" cy="19368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692760" y="4278240"/>
                  <a:ext cx="1209960" cy="2682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676920" y="4975200"/>
                  <a:ext cx="1233720" cy="3016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48360" y="4790160"/>
                <a:ext cx="208800" cy="679680"/>
                <a:chOff x="6948360" y="4790160"/>
                <a:chExt cx="208800" cy="679680"/>
              </a:xfrm>
            </p:grpSpPr>
            <p:sp>
              <p:nvSpPr>
                <p:cNvPr id="408" name=""/>
                <p:cNvSpPr/>
                <p:nvPr/>
              </p:nvSpPr>
              <p:spPr>
                <a:xfrm flipH="1" flipV="1" rot="20775600">
                  <a:off x="7030440" y="499392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 rot="1745400">
                  <a:off x="7038360" y="479088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 rot="21281400">
                  <a:off x="6969600" y="499824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546000">
                  <a:off x="6976800" y="47941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969240" y="4983120"/>
                  <a:ext cx="61920" cy="4464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425720" y="4296240"/>
                <a:ext cx="203760" cy="421560"/>
                <a:chOff x="7425720" y="4296240"/>
                <a:chExt cx="203760" cy="421560"/>
              </a:xfrm>
            </p:grpSpPr>
            <p:sp>
              <p:nvSpPr>
                <p:cNvPr id="414" name=""/>
                <p:cNvSpPr/>
                <p:nvPr/>
              </p:nvSpPr>
              <p:spPr>
                <a:xfrm flipH="1" flipV="1" rot="505800">
                  <a:off x="7539480" y="4495320"/>
                  <a:ext cx="7308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rot="20742000">
                  <a:off x="7530120" y="430164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 rot="1342200">
                  <a:off x="7480440" y="44953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19981200">
                  <a:off x="7470360" y="43048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543800" y="4479840"/>
                  <a:ext cx="61920" cy="44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7390080" y="4777200"/>
                <a:ext cx="221040" cy="685800"/>
                <a:chOff x="7390080" y="4777200"/>
                <a:chExt cx="221040" cy="685800"/>
              </a:xfrm>
            </p:grpSpPr>
            <p:sp>
              <p:nvSpPr>
                <p:cNvPr id="420" name=""/>
                <p:cNvSpPr/>
                <p:nvPr/>
              </p:nvSpPr>
              <p:spPr>
                <a:xfrm flipH="1" flipV="1" rot="241800">
                  <a:off x="7522920" y="4987080"/>
                  <a:ext cx="71280" cy="4701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rot="20617200">
                  <a:off x="7512480" y="478116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 rot="732000">
                  <a:off x="7461360" y="499284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19408200">
                  <a:off x="7450200" y="478476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531200" y="4979880"/>
                  <a:ext cx="61920" cy="4464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6923160" y="4328640"/>
                <a:ext cx="198720" cy="415440"/>
                <a:chOff x="6923160" y="4328640"/>
                <a:chExt cx="198720" cy="415440"/>
              </a:xfrm>
            </p:grpSpPr>
            <p:sp>
              <p:nvSpPr>
                <p:cNvPr id="426" name=""/>
                <p:cNvSpPr/>
                <p:nvPr/>
              </p:nvSpPr>
              <p:spPr>
                <a:xfrm flipH="1" flipV="1" rot="20049000">
                  <a:off x="7003440" y="452160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 rot="1485600">
                  <a:off x="7006680" y="4333680"/>
                  <a:ext cx="727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 rot="20890800">
                  <a:off x="6943680" y="4521600"/>
                  <a:ext cx="7452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715800">
                  <a:off x="6946560" y="43365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46920" y="4508640"/>
                  <a:ext cx="6192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7391520" y="2057400"/>
              <a:ext cx="1560240" cy="1981080"/>
            </a:xfrm>
            <a:custGeom>
              <a:avLst/>
              <a:gdLst/>
              <a:ahLst/>
              <a:rect l="l" t="t" r="r" b="b"/>
              <a:pathLst>
                <a:path w="983" h="1248">
                  <a:moveTo>
                    <a:pt x="0" y="0"/>
                  </a:moveTo>
                  <a:cubicBezTo>
                    <a:pt x="260" y="76"/>
                    <a:pt x="520" y="152"/>
                    <a:pt x="672" y="288"/>
                  </a:cubicBezTo>
                  <a:cubicBezTo>
                    <a:pt x="823" y="423"/>
                    <a:pt x="983" y="656"/>
                    <a:pt x="912" y="816"/>
                  </a:cubicBezTo>
                  <a:cubicBezTo>
                    <a:pt x="840" y="975"/>
                    <a:pt x="540" y="1111"/>
                    <a:pt x="240" y="1248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859920" y="4267080"/>
            <a:ext cx="2616840" cy="2033640"/>
            <a:chOff x="3859920" y="4267080"/>
            <a:chExt cx="2616840" cy="2033640"/>
          </a:xfrm>
        </p:grpSpPr>
        <p:sp>
          <p:nvSpPr>
            <p:cNvPr id="433" name=""/>
            <p:cNvSpPr/>
            <p:nvPr/>
          </p:nvSpPr>
          <p:spPr>
            <a:xfrm>
              <a:off x="3859920" y="5932440"/>
              <a:ext cx="1421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lophase 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638320" y="4267080"/>
              <a:ext cx="838440" cy="1526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rot="8823000">
            <a:off x="8034120" y="5257440"/>
            <a:ext cx="380880" cy="1066680"/>
          </a:xfrm>
          <a:prstGeom prst="downArrow">
            <a:avLst>
              <a:gd name="adj1" fmla="val 50000"/>
              <a:gd name="adj2" fmla="val 700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50080" y="628020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Centrome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2898600">
            <a:off x="5447880" y="72396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120" y="60948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bival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of homolog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Chromos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3174120" y="1512720"/>
            <a:ext cx="142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lophas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13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eiosis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28600" y="914400"/>
            <a:ext cx="2697120" cy="1295280"/>
            <a:chOff x="228600" y="914400"/>
            <a:chExt cx="2697120" cy="1295280"/>
          </a:xfrm>
        </p:grpSpPr>
        <p:sp>
          <p:nvSpPr>
            <p:cNvPr id="444" name=""/>
            <p:cNvSpPr/>
            <p:nvPr/>
          </p:nvSpPr>
          <p:spPr>
            <a:xfrm>
              <a:off x="1828800" y="9144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8600" y="9144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744840" y="1291680"/>
              <a:ext cx="167400" cy="659520"/>
              <a:chOff x="744840" y="1291680"/>
              <a:chExt cx="167400" cy="659520"/>
            </a:xfrm>
          </p:grpSpPr>
          <p:sp>
            <p:nvSpPr>
              <p:cNvPr id="447" name=""/>
              <p:cNvSpPr/>
              <p:nvPr/>
            </p:nvSpPr>
            <p:spPr>
              <a:xfrm flipH="1" flipV="1" rot="21345600">
                <a:off x="823320" y="14752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rot="609600">
                <a:off x="828000" y="1295280"/>
                <a:ext cx="615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 rot="254400">
                <a:off x="762480" y="14799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20990400">
                <a:off x="766440" y="1298520"/>
                <a:ext cx="6480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99920" y="1481040"/>
                <a:ext cx="61560" cy="4464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196720" y="1368000"/>
              <a:ext cx="159120" cy="418680"/>
              <a:chOff x="2196720" y="1368000"/>
              <a:chExt cx="159120" cy="418680"/>
            </a:xfrm>
          </p:grpSpPr>
          <p:sp>
            <p:nvSpPr>
              <p:cNvPr id="453" name=""/>
              <p:cNvSpPr/>
              <p:nvPr/>
            </p:nvSpPr>
            <p:spPr>
              <a:xfrm flipH="1" flipV="1" rot="21178800">
                <a:off x="2269440" y="156708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rot="384600">
                <a:off x="2269440" y="137124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 rot="421200">
                <a:off x="2209320" y="15670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1215400">
                <a:off x="2209320" y="1374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47840" y="154332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2345040" y="1291680"/>
              <a:ext cx="167760" cy="659520"/>
              <a:chOff x="2345040" y="1291680"/>
              <a:chExt cx="167760" cy="659520"/>
            </a:xfrm>
          </p:grpSpPr>
          <p:sp>
            <p:nvSpPr>
              <p:cNvPr id="459" name=""/>
              <p:cNvSpPr/>
              <p:nvPr/>
            </p:nvSpPr>
            <p:spPr>
              <a:xfrm flipH="1" flipV="1" rot="21345600">
                <a:off x="2423880" y="14752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609600">
                <a:off x="2428560" y="12952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254400">
                <a:off x="2362680" y="14799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0990400">
                <a:off x="2367000" y="12985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400480" y="148104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596520" y="1368000"/>
              <a:ext cx="158760" cy="418320"/>
              <a:chOff x="596520" y="1368000"/>
              <a:chExt cx="158760" cy="418320"/>
            </a:xfrm>
          </p:grpSpPr>
          <p:sp>
            <p:nvSpPr>
              <p:cNvPr id="465" name=""/>
              <p:cNvSpPr/>
              <p:nvPr/>
            </p:nvSpPr>
            <p:spPr>
              <a:xfrm flipH="1" flipV="1" rot="21178800">
                <a:off x="668880" y="156600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rot="384600">
                <a:off x="668880" y="137124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 rot="421200">
                <a:off x="609120" y="156600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21215400">
                <a:off x="609120" y="13744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7640" y="154296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33520" y="1752480"/>
            <a:ext cx="5658840" cy="1938240"/>
            <a:chOff x="533520" y="1752480"/>
            <a:chExt cx="5658840" cy="1938240"/>
          </a:xfrm>
        </p:grpSpPr>
        <p:sp>
          <p:nvSpPr>
            <p:cNvPr id="471" name=""/>
            <p:cNvSpPr/>
            <p:nvPr/>
          </p:nvSpPr>
          <p:spPr>
            <a:xfrm>
              <a:off x="4541040" y="2808360"/>
              <a:ext cx="1651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a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33520" y="2286000"/>
              <a:ext cx="1277640" cy="1404720"/>
              <a:chOff x="533520" y="2286000"/>
              <a:chExt cx="1277640" cy="140472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533520" y="2286000"/>
                <a:ext cx="1277640" cy="1404720"/>
                <a:chOff x="533520" y="2286000"/>
                <a:chExt cx="1277640" cy="14047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33520" y="22860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623880" y="2428920"/>
                  <a:ext cx="1062000" cy="1134720"/>
                  <a:chOff x="623880" y="2428920"/>
                  <a:chExt cx="1062000" cy="11347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648000" y="29883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48000" y="28789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23880" y="32414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800" y="24289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50160" y="30546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48000" y="26964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50160" y="25498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36840" y="31348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" name=""/>
              <p:cNvGrpSpPr/>
              <p:nvPr/>
            </p:nvGrpSpPr>
            <p:grpSpPr>
              <a:xfrm>
                <a:off x="1081440" y="2993760"/>
                <a:ext cx="167400" cy="658440"/>
                <a:chOff x="1081440" y="2993760"/>
                <a:chExt cx="167400" cy="658440"/>
              </a:xfrm>
            </p:grpSpPr>
            <p:sp>
              <p:nvSpPr>
                <p:cNvPr id="485" name=""/>
                <p:cNvSpPr/>
                <p:nvPr/>
              </p:nvSpPr>
              <p:spPr>
                <a:xfrm flipH="1" flipV="1" rot="21345600">
                  <a:off x="1159920" y="317772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rot="609600">
                  <a:off x="1164960" y="2997360"/>
                  <a:ext cx="615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 rot="254400">
                  <a:off x="1099080" y="3181680"/>
                  <a:ext cx="7128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20990400">
                  <a:off x="1103040" y="300024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6520" y="318276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1085760" y="2504520"/>
                <a:ext cx="158760" cy="418320"/>
                <a:chOff x="1085760" y="2504520"/>
                <a:chExt cx="158760" cy="418320"/>
              </a:xfrm>
            </p:grpSpPr>
            <p:sp>
              <p:nvSpPr>
                <p:cNvPr id="491" name=""/>
                <p:cNvSpPr/>
                <p:nvPr/>
              </p:nvSpPr>
              <p:spPr>
                <a:xfrm flipH="1" flipV="1" rot="21178800">
                  <a:off x="1158120" y="270252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rot="384600">
                  <a:off x="1158120" y="250776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 rot="421200">
                  <a:off x="1098360" y="27025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21215400">
                  <a:off x="1098360" y="25110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136880" y="2679480"/>
                  <a:ext cx="6192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"/>
            <p:cNvGrpSpPr/>
            <p:nvPr/>
          </p:nvGrpSpPr>
          <p:grpSpPr>
            <a:xfrm>
              <a:off x="3048120" y="2286000"/>
              <a:ext cx="1277640" cy="1404720"/>
              <a:chOff x="3048120" y="2286000"/>
              <a:chExt cx="1277640" cy="1404720"/>
            </a:xfrm>
          </p:grpSpPr>
          <p:sp>
            <p:nvSpPr>
              <p:cNvPr id="497" name=""/>
              <p:cNvSpPr/>
              <p:nvPr/>
            </p:nvSpPr>
            <p:spPr>
              <a:xfrm>
                <a:off x="3048120" y="2286000"/>
                <a:ext cx="1277640" cy="140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3138480" y="2428920"/>
                <a:ext cx="1062000" cy="1134720"/>
                <a:chOff x="3138480" y="2428920"/>
                <a:chExt cx="1062000" cy="11347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62600" y="2988360"/>
                  <a:ext cx="1016640" cy="370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62600" y="2878920"/>
                  <a:ext cx="1005840" cy="3960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138480" y="3241440"/>
                  <a:ext cx="1062000" cy="32220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46400" y="2428920"/>
                  <a:ext cx="1048680" cy="26352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64760" y="3054600"/>
                  <a:ext cx="1008720" cy="15444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162600" y="2696400"/>
                  <a:ext cx="1013760" cy="16236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164760" y="2549880"/>
                  <a:ext cx="1014120" cy="2250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151440" y="3134880"/>
                  <a:ext cx="1034280" cy="2530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"/>
            <p:cNvGrpSpPr/>
            <p:nvPr/>
          </p:nvGrpSpPr>
          <p:grpSpPr>
            <a:xfrm>
              <a:off x="3616200" y="2498400"/>
              <a:ext cx="159120" cy="418680"/>
              <a:chOff x="3616200" y="2498400"/>
              <a:chExt cx="159120" cy="418680"/>
            </a:xfrm>
          </p:grpSpPr>
          <p:sp>
            <p:nvSpPr>
              <p:cNvPr id="508" name=""/>
              <p:cNvSpPr/>
              <p:nvPr/>
            </p:nvSpPr>
            <p:spPr>
              <a:xfrm flipH="1" flipV="1" rot="21178800">
                <a:off x="3688920" y="269748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rot="384600">
                <a:off x="3688920" y="250164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 rot="421200">
                <a:off x="3628800" y="26974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21215400">
                <a:off x="3628800" y="25048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67320" y="267372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611880" y="2980800"/>
              <a:ext cx="167760" cy="659520"/>
              <a:chOff x="3611880" y="2980800"/>
              <a:chExt cx="167760" cy="659520"/>
            </a:xfrm>
          </p:grpSpPr>
          <p:sp>
            <p:nvSpPr>
              <p:cNvPr id="514" name=""/>
              <p:cNvSpPr/>
              <p:nvPr/>
            </p:nvSpPr>
            <p:spPr>
              <a:xfrm flipH="1" flipV="1" rot="21345600">
                <a:off x="3690720" y="316440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rot="609600">
                <a:off x="3695400" y="298440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 rot="254400">
                <a:off x="3629520" y="316908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20990400">
                <a:off x="3633840" y="298764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667320" y="317016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2971800" y="1752480"/>
              <a:ext cx="45720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4360" y="1822320"/>
              <a:ext cx="171720" cy="5209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066680" y="3174840"/>
            <a:ext cx="6605640" cy="2116080"/>
            <a:chOff x="1066680" y="3174840"/>
            <a:chExt cx="6605640" cy="2116080"/>
          </a:xfrm>
        </p:grpSpPr>
        <p:sp>
          <p:nvSpPr>
            <p:cNvPr id="522" name=""/>
            <p:cNvSpPr/>
            <p:nvPr/>
          </p:nvSpPr>
          <p:spPr>
            <a:xfrm>
              <a:off x="6152040" y="4408560"/>
              <a:ext cx="1520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a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1066680" y="3886200"/>
              <a:ext cx="1277640" cy="1404720"/>
              <a:chOff x="1066680" y="3886200"/>
              <a:chExt cx="1277640" cy="140472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1066680" y="3886200"/>
                <a:ext cx="1277640" cy="1404720"/>
                <a:chOff x="1066680" y="3886200"/>
                <a:chExt cx="1277640" cy="1404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1066680" y="38862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1157040" y="4029120"/>
                  <a:ext cx="1062000" cy="1134720"/>
                  <a:chOff x="1157040" y="4029120"/>
                  <a:chExt cx="1062000" cy="11347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1181160" y="45885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1181160" y="44791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1157040" y="48416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1164960" y="40291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1183320" y="46548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181160" y="42966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1183320" y="41500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170000" y="47350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"/>
              <p:cNvGrpSpPr/>
              <p:nvPr/>
            </p:nvGrpSpPr>
            <p:grpSpPr>
              <a:xfrm>
                <a:off x="1393200" y="4536360"/>
                <a:ext cx="244080" cy="654480"/>
                <a:chOff x="1393200" y="4536360"/>
                <a:chExt cx="244080" cy="654480"/>
              </a:xfrm>
            </p:grpSpPr>
            <p:sp>
              <p:nvSpPr>
                <p:cNvPr id="536" name=""/>
                <p:cNvSpPr/>
                <p:nvPr/>
              </p:nvSpPr>
              <p:spPr>
                <a:xfrm flipH="1" flipV="1" rot="20297400">
                  <a:off x="1481040" y="472572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rot="1897800">
                  <a:off x="1463760" y="45367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1393200" y="4726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422360" y="4013280"/>
                <a:ext cx="168120" cy="424800"/>
                <a:chOff x="1422360" y="4013280"/>
                <a:chExt cx="168120" cy="424800"/>
              </a:xfrm>
            </p:grpSpPr>
            <p:sp>
              <p:nvSpPr>
                <p:cNvPr id="540" name=""/>
                <p:cNvSpPr/>
                <p:nvPr/>
              </p:nvSpPr>
              <p:spPr>
                <a:xfrm flipH="1" flipV="1" rot="19914600">
                  <a:off x="1468440" y="42166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rot="1378800">
                  <a:off x="1468800" y="4019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1424880" y="420984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1744560" y="4536360"/>
                <a:ext cx="244080" cy="654480"/>
                <a:chOff x="1744560" y="4536360"/>
                <a:chExt cx="244080" cy="654480"/>
              </a:xfrm>
            </p:grpSpPr>
            <p:sp>
              <p:nvSpPr>
                <p:cNvPr id="544" name=""/>
                <p:cNvSpPr/>
                <p:nvPr/>
              </p:nvSpPr>
              <p:spPr>
                <a:xfrm flipV="1" rot="1302600">
                  <a:off x="1828800" y="472572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19702200">
                  <a:off x="1851840" y="45367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926720" y="4726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1814040" y="4013280"/>
                <a:ext cx="167040" cy="425160"/>
                <a:chOff x="1814040" y="4013280"/>
                <a:chExt cx="167040" cy="425160"/>
              </a:xfrm>
            </p:grpSpPr>
            <p:sp>
              <p:nvSpPr>
                <p:cNvPr id="548" name=""/>
                <p:cNvSpPr/>
                <p:nvPr/>
              </p:nvSpPr>
              <p:spPr>
                <a:xfrm flipV="1" rot="1685400">
                  <a:off x="1860120" y="421776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rot="20221200">
                  <a:off x="1860120" y="4019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17360" y="4209840"/>
                  <a:ext cx="6156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1" name=""/>
            <p:cNvGrpSpPr/>
            <p:nvPr/>
          </p:nvGrpSpPr>
          <p:grpSpPr>
            <a:xfrm>
              <a:off x="4648320" y="3886200"/>
              <a:ext cx="1277640" cy="1404720"/>
              <a:chOff x="4648320" y="3886200"/>
              <a:chExt cx="1277640" cy="140472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4648320" y="3886200"/>
                <a:ext cx="1277640" cy="1404720"/>
                <a:chOff x="4648320" y="3886200"/>
                <a:chExt cx="1277640" cy="140472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4648320" y="38862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4738680" y="4029120"/>
                  <a:ext cx="1062000" cy="1134720"/>
                  <a:chOff x="4738680" y="4029120"/>
                  <a:chExt cx="1062000" cy="113472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4762800" y="45885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762800" y="44791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738680" y="48416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746600" y="40291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4764960" y="46548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762800" y="42966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4764960" y="41500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751640" y="47350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3" name=""/>
              <p:cNvGrpSpPr/>
              <p:nvPr/>
            </p:nvGrpSpPr>
            <p:grpSpPr>
              <a:xfrm>
                <a:off x="4990680" y="4017600"/>
                <a:ext cx="209520" cy="421920"/>
                <a:chOff x="4990680" y="4017600"/>
                <a:chExt cx="209520" cy="421920"/>
              </a:xfrm>
            </p:grpSpPr>
            <p:sp>
              <p:nvSpPr>
                <p:cNvPr id="564" name=""/>
                <p:cNvSpPr/>
                <p:nvPr/>
              </p:nvSpPr>
              <p:spPr>
                <a:xfrm rot="1596600">
                  <a:off x="5049360" y="402228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 rot="19309800">
                  <a:off x="5066280" y="422352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4990680" y="421308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975200" y="4556880"/>
                <a:ext cx="267840" cy="639000"/>
                <a:chOff x="4975200" y="4556880"/>
                <a:chExt cx="267840" cy="639000"/>
              </a:xfrm>
            </p:grpSpPr>
            <p:sp>
              <p:nvSpPr>
                <p:cNvPr id="568" name=""/>
                <p:cNvSpPr/>
                <p:nvPr/>
              </p:nvSpPr>
              <p:spPr>
                <a:xfrm flipH="1" flipV="1" rot="20056800">
                  <a:off x="5072760" y="47343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 rot="2321400">
                  <a:off x="5046120" y="45525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4975200" y="47354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5354640" y="4011480"/>
                <a:ext cx="209520" cy="421920"/>
                <a:chOff x="5354640" y="4011480"/>
                <a:chExt cx="209520" cy="421920"/>
              </a:xfrm>
            </p:grpSpPr>
            <p:sp>
              <p:nvSpPr>
                <p:cNvPr id="572" name=""/>
                <p:cNvSpPr/>
                <p:nvPr/>
              </p:nvSpPr>
              <p:spPr>
                <a:xfrm flipH="1" rot="20003400">
                  <a:off x="5432040" y="401616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V="1" rot="2290200">
                  <a:off x="5412960" y="42174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502240" y="42069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350320" y="4521960"/>
                <a:ext cx="267840" cy="639000"/>
                <a:chOff x="5350320" y="4521960"/>
                <a:chExt cx="267840" cy="639000"/>
              </a:xfrm>
            </p:grpSpPr>
            <p:sp>
              <p:nvSpPr>
                <p:cNvPr id="576" name=""/>
                <p:cNvSpPr/>
                <p:nvPr/>
              </p:nvSpPr>
              <p:spPr>
                <a:xfrm flipV="1" rot="1543200">
                  <a:off x="5447880" y="46994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19278600">
                  <a:off x="5481720" y="45176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556240" y="470052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"/>
            <p:cNvSpPr/>
            <p:nvPr/>
          </p:nvSpPr>
          <p:spPr>
            <a:xfrm>
              <a:off x="4390920" y="3174840"/>
              <a:ext cx="685800" cy="6858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00360" y="3286080"/>
              <a:ext cx="196560" cy="6001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01800" y="5257800"/>
            <a:ext cx="7574400" cy="1401840"/>
            <a:chOff x="901800" y="5257800"/>
            <a:chExt cx="7574400" cy="1401840"/>
          </a:xfrm>
        </p:grpSpPr>
        <p:sp>
          <p:nvSpPr>
            <p:cNvPr id="582" name=""/>
            <p:cNvSpPr/>
            <p:nvPr/>
          </p:nvSpPr>
          <p:spPr>
            <a:xfrm>
              <a:off x="1981080" y="5562720"/>
              <a:ext cx="91944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01800" y="5573880"/>
              <a:ext cx="91908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6668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12076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5333760" y="5334120"/>
              <a:ext cx="7596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17760" y="5932440"/>
              <a:ext cx="1558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lo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2412720" y="5893560"/>
              <a:ext cx="86040" cy="332640"/>
              <a:chOff x="2412720" y="5893560"/>
              <a:chExt cx="86040" cy="332640"/>
            </a:xfrm>
          </p:grpSpPr>
          <p:sp>
            <p:nvSpPr>
              <p:cNvPr id="589" name=""/>
              <p:cNvSpPr/>
              <p:nvPr/>
            </p:nvSpPr>
            <p:spPr>
              <a:xfrm flipV="1" rot="421200">
                <a:off x="2422800" y="605124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1215400">
                <a:off x="2422440" y="589608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449080" y="603216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255400" y="5816880"/>
              <a:ext cx="88920" cy="551160"/>
              <a:chOff x="2255400" y="5816880"/>
              <a:chExt cx="88920" cy="551160"/>
            </a:xfrm>
          </p:grpSpPr>
          <p:sp>
            <p:nvSpPr>
              <p:cNvPr id="593" name=""/>
              <p:cNvSpPr/>
              <p:nvPr/>
            </p:nvSpPr>
            <p:spPr>
              <a:xfrm flipV="1" rot="254400">
                <a:off x="2269080" y="597060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0990400">
                <a:off x="2273760" y="5819400"/>
                <a:ext cx="48240" cy="188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2296080" y="597492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371600" y="5858640"/>
              <a:ext cx="86040" cy="332640"/>
              <a:chOff x="1371600" y="5858640"/>
              <a:chExt cx="86040" cy="332640"/>
            </a:xfrm>
          </p:grpSpPr>
          <p:sp>
            <p:nvSpPr>
              <p:cNvPr id="597" name=""/>
              <p:cNvSpPr/>
              <p:nvPr/>
            </p:nvSpPr>
            <p:spPr>
              <a:xfrm flipH="1" flipV="1" rot="21178800">
                <a:off x="1388520" y="601632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rot="384600">
                <a:off x="1388880" y="586116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600" y="599724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1219320" y="5781960"/>
              <a:ext cx="88920" cy="551160"/>
              <a:chOff x="1219320" y="5781960"/>
              <a:chExt cx="88920" cy="551160"/>
            </a:xfrm>
          </p:grpSpPr>
          <p:sp>
            <p:nvSpPr>
              <p:cNvPr id="601" name=""/>
              <p:cNvSpPr/>
              <p:nvPr/>
            </p:nvSpPr>
            <p:spPr>
              <a:xfrm flipH="1" flipV="1" rot="21345600">
                <a:off x="1238400" y="593568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rot="609600">
                <a:off x="1240920" y="5784480"/>
                <a:ext cx="48240" cy="1882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219320" y="594000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5638680" y="5562720"/>
              <a:ext cx="91944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59400" y="5573880"/>
              <a:ext cx="91908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2428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7836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6148800" y="5934600"/>
              <a:ext cx="89640" cy="348120"/>
              <a:chOff x="6148800" y="5934600"/>
              <a:chExt cx="89640" cy="348120"/>
            </a:xfrm>
          </p:grpSpPr>
          <p:sp>
            <p:nvSpPr>
              <p:cNvPr id="609" name=""/>
              <p:cNvSpPr/>
              <p:nvPr/>
            </p:nvSpPr>
            <p:spPr>
              <a:xfrm flipV="1" rot="421200">
                <a:off x="6159600" y="609840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21215400">
                <a:off x="6159240" y="59371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89480" y="60782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5105880" y="5934600"/>
              <a:ext cx="89640" cy="348120"/>
              <a:chOff x="5105880" y="5934600"/>
              <a:chExt cx="89640" cy="348120"/>
            </a:xfrm>
          </p:grpSpPr>
          <p:sp>
            <p:nvSpPr>
              <p:cNvPr id="613" name=""/>
              <p:cNvSpPr/>
              <p:nvPr/>
            </p:nvSpPr>
            <p:spPr>
              <a:xfrm flipH="1" flipV="1" rot="21178800">
                <a:off x="5125680" y="609840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rot="384600">
                <a:off x="5126040" y="59371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105880" y="60782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4863960" y="5858280"/>
              <a:ext cx="88200" cy="521280"/>
              <a:chOff x="4863960" y="5858280"/>
              <a:chExt cx="88200" cy="521280"/>
            </a:xfrm>
          </p:grpSpPr>
          <p:sp>
            <p:nvSpPr>
              <p:cNvPr id="617" name=""/>
              <p:cNvSpPr/>
              <p:nvPr/>
            </p:nvSpPr>
            <p:spPr>
              <a:xfrm flipH="1" flipV="1" rot="21345600">
                <a:off x="4881240" y="6003720"/>
                <a:ext cx="5616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rot="609600">
                <a:off x="4885200" y="5861160"/>
                <a:ext cx="48600" cy="1778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63960" y="6008760"/>
                <a:ext cx="4860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5917680" y="5858280"/>
              <a:ext cx="87480" cy="520920"/>
              <a:chOff x="5917680" y="5858280"/>
              <a:chExt cx="87480" cy="520920"/>
            </a:xfrm>
          </p:grpSpPr>
          <p:sp>
            <p:nvSpPr>
              <p:cNvPr id="621" name=""/>
              <p:cNvSpPr/>
              <p:nvPr/>
            </p:nvSpPr>
            <p:spPr>
              <a:xfrm flipV="1" rot="254400">
                <a:off x="5930640" y="6004080"/>
                <a:ext cx="55800" cy="3733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20990400">
                <a:off x="5935320" y="586116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956920" y="600876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5638680" y="5257800"/>
              <a:ext cx="15264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76160" y="5334120"/>
              <a:ext cx="7596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81080" y="5257800"/>
              <a:ext cx="15264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3170160" y="1512720"/>
            <a:ext cx="1416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has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60" y="22860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that before Prophas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There is no replication of 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90600" y="1512720"/>
            <a:ext cx="4572000" cy="3788280"/>
            <a:chOff x="390600" y="1512720"/>
            <a:chExt cx="4572000" cy="3788280"/>
          </a:xfrm>
        </p:grpSpPr>
        <p:grpSp>
          <p:nvGrpSpPr>
            <p:cNvPr id="632" name=""/>
            <p:cNvGrpSpPr/>
            <p:nvPr/>
          </p:nvGrpSpPr>
          <p:grpSpPr>
            <a:xfrm>
              <a:off x="430200" y="1512720"/>
              <a:ext cx="3544200" cy="3788280"/>
              <a:chOff x="430200" y="1512720"/>
              <a:chExt cx="3544200" cy="37882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430200" y="2082960"/>
                <a:ext cx="2911320" cy="3218040"/>
                <a:chOff x="430200" y="2082960"/>
                <a:chExt cx="2911320" cy="3218040"/>
              </a:xfrm>
            </p:grpSpPr>
            <p:sp>
              <p:nvSpPr>
                <p:cNvPr id="634" name=""/>
                <p:cNvSpPr/>
                <p:nvPr/>
              </p:nvSpPr>
              <p:spPr>
                <a:xfrm flipH="1" rot="19660200">
                  <a:off x="1296720" y="2104560"/>
                  <a:ext cx="5713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flipV="1" rot="18854400">
                  <a:off x="2251080" y="3296160"/>
                  <a:ext cx="57168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 rot="19696200">
                  <a:off x="1882080" y="358596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8890400">
                  <a:off x="942120" y="2416320"/>
                  <a:ext cx="58392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9275000">
                  <a:off x="1590840" y="3431520"/>
                  <a:ext cx="484200" cy="34776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989280" y="1512720"/>
                <a:ext cx="2985120" cy="3168720"/>
                <a:chOff x="989280" y="1512720"/>
                <a:chExt cx="2985120" cy="3168720"/>
              </a:xfrm>
            </p:grpSpPr>
            <p:sp>
              <p:nvSpPr>
                <p:cNvPr id="640" name=""/>
                <p:cNvSpPr/>
                <p:nvPr/>
              </p:nvSpPr>
              <p:spPr>
                <a:xfrm rot="18730200">
                  <a:off x="1518480" y="185148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 rot="18694200">
                  <a:off x="2867040" y="2668320"/>
                  <a:ext cx="57168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rot="19500000">
                  <a:off x="1857240" y="1523880"/>
                  <a:ext cx="5713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V="1" rot="19536000">
                  <a:off x="2513160" y="297648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9114800">
                  <a:off x="2181240" y="2837880"/>
                  <a:ext cx="484200" cy="34776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0600" y="1523880"/>
              <a:ext cx="4572000" cy="3662640"/>
              <a:chOff x="390600" y="1523880"/>
              <a:chExt cx="4572000" cy="3662640"/>
            </a:xfrm>
          </p:grpSpPr>
          <p:sp>
            <p:nvSpPr>
              <p:cNvPr id="646" name=""/>
              <p:cNvSpPr/>
              <p:nvPr/>
            </p:nvSpPr>
            <p:spPr>
              <a:xfrm flipH="1">
                <a:off x="390600" y="1528920"/>
                <a:ext cx="3657600" cy="3657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4383000" y="1528920"/>
                <a:ext cx="579600" cy="57924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351160" y="1523880"/>
                <a:ext cx="2332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3848040" y="1925280"/>
                <a:ext cx="1108080" cy="2259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0" name=""/>
          <p:cNvGrpSpPr/>
          <p:nvPr/>
        </p:nvGrpSpPr>
        <p:grpSpPr>
          <a:xfrm>
            <a:off x="3657600" y="1447920"/>
            <a:ext cx="1828800" cy="2867040"/>
            <a:chOff x="3657600" y="1447920"/>
            <a:chExt cx="1828800" cy="2867040"/>
          </a:xfrm>
        </p:grpSpPr>
        <p:sp>
          <p:nvSpPr>
            <p:cNvPr id="651" name=""/>
            <p:cNvSpPr/>
            <p:nvPr/>
          </p:nvSpPr>
          <p:spPr>
            <a:xfrm>
              <a:off x="3657600" y="3032280"/>
              <a:ext cx="1828800" cy="1282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trad formation/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rossing o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810240" y="1447920"/>
              <a:ext cx="1523880" cy="1676160"/>
              <a:chOff x="3810240" y="1447920"/>
              <a:chExt cx="1523880" cy="1676160"/>
            </a:xfrm>
          </p:grpSpPr>
          <p:sp>
            <p:nvSpPr>
              <p:cNvPr id="653" name=""/>
              <p:cNvSpPr/>
              <p:nvPr/>
            </p:nvSpPr>
            <p:spPr>
              <a:xfrm>
                <a:off x="3810240" y="1447920"/>
                <a:ext cx="152388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4191840" y="2250360"/>
                <a:ext cx="381240" cy="654120"/>
                <a:chOff x="4191840" y="2250360"/>
                <a:chExt cx="381240" cy="654120"/>
              </a:xfrm>
            </p:grpSpPr>
            <p:sp>
              <p:nvSpPr>
                <p:cNvPr id="655" name=""/>
                <p:cNvSpPr/>
                <p:nvPr/>
              </p:nvSpPr>
              <p:spPr>
                <a:xfrm flipH="1" flipV="1" rot="984600">
                  <a:off x="4345920" y="2433240"/>
                  <a:ext cx="71280" cy="4705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rot="1848600">
                  <a:off x="4458240" y="2272680"/>
                  <a:ext cx="615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 rot="1492800">
                  <a:off x="4286880" y="241596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629400">
                  <a:off x="4399200" y="225432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1239000">
                  <a:off x="4397400" y="244188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4300920" y="2287800"/>
                <a:ext cx="366120" cy="655200"/>
                <a:chOff x="4300920" y="2287800"/>
                <a:chExt cx="366120" cy="655200"/>
              </a:xfrm>
            </p:grpSpPr>
            <p:sp>
              <p:nvSpPr>
                <p:cNvPr id="661" name=""/>
                <p:cNvSpPr/>
                <p:nvPr/>
              </p:nvSpPr>
              <p:spPr>
                <a:xfrm flipH="1" flipV="1" rot="889200">
                  <a:off x="4450680" y="2471040"/>
                  <a:ext cx="71280" cy="4701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 rot="1753200">
                  <a:off x="4554000" y="2307600"/>
                  <a:ext cx="6192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 rot="1398000">
                  <a:off x="4390560" y="245556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rot="534000">
                  <a:off x="4494960" y="229140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rot="1143600">
                  <a:off x="4496400" y="2478960"/>
                  <a:ext cx="6156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4453560" y="1676160"/>
                <a:ext cx="372240" cy="411840"/>
                <a:chOff x="4453560" y="1676160"/>
                <a:chExt cx="372240" cy="411840"/>
              </a:xfrm>
            </p:grpSpPr>
            <p:sp>
              <p:nvSpPr>
                <p:cNvPr id="667" name=""/>
                <p:cNvSpPr/>
                <p:nvPr/>
              </p:nvSpPr>
              <p:spPr>
                <a:xfrm flipH="1" flipV="1" rot="18853800">
                  <a:off x="4686120" y="18306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 rot="19659000">
                  <a:off x="4563720" y="167868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 rot="19696200">
                  <a:off x="4638960" y="186804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rot="18890400">
                  <a:off x="4519080" y="17182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rot="19275000">
                  <a:off x="4601880" y="184860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4525200" y="1603440"/>
                <a:ext cx="381600" cy="405000"/>
                <a:chOff x="4525200" y="1603440"/>
                <a:chExt cx="381600" cy="405000"/>
              </a:xfrm>
            </p:grpSpPr>
            <p:sp>
              <p:nvSpPr>
                <p:cNvPr id="673" name=""/>
                <p:cNvSpPr/>
                <p:nvPr/>
              </p:nvSpPr>
              <p:spPr>
                <a:xfrm flipH="1" flipV="1" rot="18693600">
                  <a:off x="4764960" y="174996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H="1" rot="19499400">
                  <a:off x="4635720" y="160452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 rot="19536000">
                  <a:off x="4719600" y="17902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rot="18730200">
                  <a:off x="4592880" y="16462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rot="19114800">
                  <a:off x="4677480" y="177300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8" name=""/>
          <p:cNvGrpSpPr/>
          <p:nvPr/>
        </p:nvGrpSpPr>
        <p:grpSpPr>
          <a:xfrm>
            <a:off x="390240" y="1512360"/>
            <a:ext cx="4572000" cy="3787920"/>
            <a:chOff x="390240" y="1512360"/>
            <a:chExt cx="4572000" cy="3787920"/>
          </a:xfrm>
        </p:grpSpPr>
        <p:grpSp>
          <p:nvGrpSpPr>
            <p:cNvPr id="679" name=""/>
            <p:cNvGrpSpPr/>
            <p:nvPr/>
          </p:nvGrpSpPr>
          <p:grpSpPr>
            <a:xfrm>
              <a:off x="420480" y="1512360"/>
              <a:ext cx="3543840" cy="3787920"/>
              <a:chOff x="420480" y="1512360"/>
              <a:chExt cx="3543840" cy="378792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420480" y="2082960"/>
                <a:ext cx="2910960" cy="3217320"/>
                <a:chOff x="420480" y="2082960"/>
                <a:chExt cx="2910960" cy="321732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880200" y="2082960"/>
                  <a:ext cx="1385280" cy="1731240"/>
                  <a:chOff x="880200" y="2082960"/>
                  <a:chExt cx="1385280" cy="173124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flipH="1" rot="19660200">
                    <a:off x="1287000" y="2104560"/>
                    <a:ext cx="571320" cy="168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1002960" y="2214360"/>
                    <a:ext cx="63972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5">
                        <a:moveTo>
                          <a:pt x="90" y="38"/>
                        </a:moveTo>
                        <a:cubicBezTo>
                          <a:pt x="66" y="55"/>
                          <a:pt x="33" y="80"/>
                          <a:pt x="19" y="107"/>
                        </a:cubicBezTo>
                        <a:cubicBezTo>
                          <a:pt x="4" y="132"/>
                          <a:pt x="0" y="164"/>
                          <a:pt x="6" y="192"/>
                        </a:cubicBezTo>
                        <a:cubicBezTo>
                          <a:pt x="10" y="219"/>
                          <a:pt x="24" y="239"/>
                          <a:pt x="47" y="275"/>
                        </a:cubicBezTo>
                        <a:cubicBezTo>
                          <a:pt x="70" y="309"/>
                          <a:pt x="120" y="383"/>
                          <a:pt x="144" y="405"/>
                        </a:cubicBezTo>
                        <a:cubicBezTo>
                          <a:pt x="166" y="425"/>
                          <a:pt x="149" y="419"/>
                          <a:pt x="183" y="402"/>
                        </a:cubicBezTo>
                        <a:cubicBezTo>
                          <a:pt x="217" y="384"/>
                          <a:pt x="308" y="319"/>
                          <a:pt x="344" y="296"/>
                        </a:cubicBezTo>
                        <a:cubicBezTo>
                          <a:pt x="379" y="272"/>
                          <a:pt x="388" y="268"/>
                          <a:pt x="396" y="259"/>
                        </a:cubicBezTo>
                        <a:cubicBezTo>
                          <a:pt x="403" y="249"/>
                          <a:pt x="394" y="247"/>
                          <a:pt x="390" y="237"/>
                        </a:cubicBezTo>
                        <a:cubicBezTo>
                          <a:pt x="385" y="226"/>
                          <a:pt x="381" y="220"/>
                          <a:pt x="370" y="197"/>
                        </a:cubicBezTo>
                        <a:cubicBezTo>
                          <a:pt x="358" y="173"/>
                          <a:pt x="337" y="124"/>
                          <a:pt x="319" y="96"/>
                        </a:cubicBezTo>
                        <a:cubicBezTo>
                          <a:pt x="300" y="67"/>
                          <a:pt x="285" y="38"/>
                          <a:pt x="259" y="23"/>
                        </a:cubicBezTo>
                        <a:cubicBezTo>
                          <a:pt x="232" y="7"/>
                          <a:pt x="189" y="0"/>
                          <a:pt x="160" y="4"/>
                        </a:cubicBezTo>
                        <a:cubicBezTo>
                          <a:pt x="131" y="7"/>
                          <a:pt x="113" y="20"/>
                          <a:pt x="90" y="3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" name=""/>
                <p:cNvSpPr/>
                <p:nvPr/>
              </p:nvSpPr>
              <p:spPr>
                <a:xfrm flipH="1" flipV="1" rot="18854400">
                  <a:off x="2241720" y="329544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 rot="19696200">
                  <a:off x="1872720" y="358524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18890400">
                  <a:off x="932400" y="241668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rot="19275000">
                  <a:off x="1580760" y="3431520"/>
                  <a:ext cx="484200" cy="34776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979200" y="1512360"/>
                <a:ext cx="2985120" cy="3169080"/>
                <a:chOff x="979200" y="1512360"/>
                <a:chExt cx="2985120" cy="316908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979200" y="1912320"/>
                  <a:ext cx="1642680" cy="1565640"/>
                  <a:chOff x="979200" y="1912320"/>
                  <a:chExt cx="1642680" cy="156564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rot="18730200">
                    <a:off x="1508400" y="1851120"/>
                    <a:ext cx="583920" cy="16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1133280" y="2062080"/>
                    <a:ext cx="666720" cy="6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421">
                        <a:moveTo>
                          <a:pt x="60" y="65"/>
                        </a:moveTo>
                        <a:cubicBezTo>
                          <a:pt x="41" y="87"/>
                          <a:pt x="15" y="120"/>
                          <a:pt x="8" y="149"/>
                        </a:cubicBezTo>
                        <a:cubicBezTo>
                          <a:pt x="0" y="177"/>
                          <a:pt x="4" y="209"/>
                          <a:pt x="16" y="235"/>
                        </a:cubicBezTo>
                        <a:cubicBezTo>
                          <a:pt x="27" y="260"/>
                          <a:pt x="45" y="276"/>
                          <a:pt x="76" y="305"/>
                        </a:cubicBezTo>
                        <a:cubicBezTo>
                          <a:pt x="107" y="333"/>
                          <a:pt x="174" y="392"/>
                          <a:pt x="202" y="407"/>
                        </a:cubicBezTo>
                        <a:cubicBezTo>
                          <a:pt x="229" y="421"/>
                          <a:pt x="211" y="420"/>
                          <a:pt x="240" y="395"/>
                        </a:cubicBezTo>
                        <a:cubicBezTo>
                          <a:pt x="268" y="369"/>
                          <a:pt x="341" y="285"/>
                          <a:pt x="370" y="253"/>
                        </a:cubicBezTo>
                        <a:cubicBezTo>
                          <a:pt x="398" y="220"/>
                          <a:pt x="407" y="209"/>
                          <a:pt x="414" y="197"/>
                        </a:cubicBezTo>
                        <a:cubicBezTo>
                          <a:pt x="420" y="184"/>
                          <a:pt x="412" y="187"/>
                          <a:pt x="406" y="179"/>
                        </a:cubicBezTo>
                        <a:cubicBezTo>
                          <a:pt x="399" y="170"/>
                          <a:pt x="392" y="163"/>
                          <a:pt x="374" y="145"/>
                        </a:cubicBezTo>
                        <a:cubicBezTo>
                          <a:pt x="355" y="126"/>
                          <a:pt x="321" y="87"/>
                          <a:pt x="296" y="65"/>
                        </a:cubicBezTo>
                        <a:cubicBezTo>
                          <a:pt x="270" y="42"/>
                          <a:pt x="249" y="17"/>
                          <a:pt x="220" y="9"/>
                        </a:cubicBezTo>
                        <a:cubicBezTo>
                          <a:pt x="190" y="0"/>
                          <a:pt x="147" y="4"/>
                          <a:pt x="120" y="15"/>
                        </a:cubicBezTo>
                        <a:cubicBezTo>
                          <a:pt x="92" y="25"/>
                          <a:pt x="78" y="42"/>
                          <a:pt x="60" y="65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" name=""/>
                <p:cNvSpPr/>
                <p:nvPr/>
              </p:nvSpPr>
              <p:spPr>
                <a:xfrm flipH="1" flipV="1" rot="18694200">
                  <a:off x="2857320" y="266904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rot="19500000">
                  <a:off x="1846440" y="152352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 rot="19536000">
                  <a:off x="2503080" y="297648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rot="19114800">
                  <a:off x="2171520" y="2837880"/>
                  <a:ext cx="484200" cy="34776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" name=""/>
            <p:cNvGrpSpPr/>
            <p:nvPr/>
          </p:nvGrpSpPr>
          <p:grpSpPr>
            <a:xfrm>
              <a:off x="390240" y="1519200"/>
              <a:ext cx="4572000" cy="3662280"/>
              <a:chOff x="390240" y="1519200"/>
              <a:chExt cx="4572000" cy="3662280"/>
            </a:xfrm>
          </p:grpSpPr>
          <p:sp>
            <p:nvSpPr>
              <p:cNvPr id="697" name=""/>
              <p:cNvSpPr/>
              <p:nvPr/>
            </p:nvSpPr>
            <p:spPr>
              <a:xfrm flipH="1">
                <a:off x="390240" y="1523880"/>
                <a:ext cx="3657600" cy="3657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4382640" y="1523880"/>
                <a:ext cx="579600" cy="57960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350800" y="1519200"/>
                <a:ext cx="2332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863520" y="1920600"/>
                <a:ext cx="1092240" cy="22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7282080" y="1905120"/>
            <a:ext cx="1863360" cy="2338920"/>
            <a:chOff x="7282080" y="1905120"/>
            <a:chExt cx="1863360" cy="2338920"/>
          </a:xfrm>
        </p:grpSpPr>
        <p:grpSp>
          <p:nvGrpSpPr>
            <p:cNvPr id="702" name=""/>
            <p:cNvGrpSpPr/>
            <p:nvPr/>
          </p:nvGrpSpPr>
          <p:grpSpPr>
            <a:xfrm>
              <a:off x="7282080" y="2209680"/>
              <a:ext cx="1863360" cy="2034360"/>
              <a:chOff x="7282080" y="2209680"/>
              <a:chExt cx="1863360" cy="2034360"/>
            </a:xfrm>
          </p:grpSpPr>
          <p:sp>
            <p:nvSpPr>
              <p:cNvPr id="703" name=""/>
              <p:cNvSpPr/>
              <p:nvPr/>
            </p:nvSpPr>
            <p:spPr>
              <a:xfrm>
                <a:off x="7282080" y="3784320"/>
                <a:ext cx="18633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Anaphase I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7391160" y="2209680"/>
                <a:ext cx="1523520" cy="1676160"/>
                <a:chOff x="7391160" y="2209680"/>
                <a:chExt cx="1523520" cy="167616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391160" y="2209680"/>
                  <a:ext cx="1523520" cy="167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"/>
                <p:cNvGrpSpPr/>
                <p:nvPr/>
              </p:nvGrpSpPr>
              <p:grpSpPr>
                <a:xfrm>
                  <a:off x="7498800" y="2381040"/>
                  <a:ext cx="1266480" cy="1352520"/>
                  <a:chOff x="7498800" y="2381040"/>
                  <a:chExt cx="1266480" cy="135252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7527240" y="3047760"/>
                    <a:ext cx="1212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527240" y="2917440"/>
                    <a:ext cx="1199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498800" y="3349440"/>
                    <a:ext cx="126648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508160" y="2381040"/>
                    <a:ext cx="125064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530120" y="3126960"/>
                    <a:ext cx="120312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7527240" y="2700000"/>
                    <a:ext cx="120924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530120" y="2525400"/>
                    <a:ext cx="12096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7514280" y="3222360"/>
                    <a:ext cx="123336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7785720" y="3037320"/>
                  <a:ext cx="208800" cy="679680"/>
                  <a:chOff x="7785720" y="3037320"/>
                  <a:chExt cx="208800" cy="67968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 flipH="1" flipV="1" rot="20775600">
                    <a:off x="7867800" y="3241080"/>
                    <a:ext cx="7128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 rot="1745400">
                    <a:off x="7875720" y="3038040"/>
                    <a:ext cx="6192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V="1" rot="21281400">
                    <a:off x="7806960" y="324540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rot="546000">
                    <a:off x="7814160" y="3041280"/>
                    <a:ext cx="651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7806600" y="3230280"/>
                    <a:ext cx="61920" cy="446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8227440" y="3024360"/>
                  <a:ext cx="221040" cy="685800"/>
                  <a:chOff x="8227440" y="3024360"/>
                  <a:chExt cx="221040" cy="68580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flipH="1" flipV="1" rot="241800">
                    <a:off x="8360280" y="323424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 rot="20617200">
                    <a:off x="8349840" y="3028320"/>
                    <a:ext cx="6192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 rot="732000">
                    <a:off x="8298720" y="3240000"/>
                    <a:ext cx="71280" cy="46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rot="19408200">
                    <a:off x="8287560" y="3031920"/>
                    <a:ext cx="651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8368560" y="3227040"/>
                    <a:ext cx="61920" cy="446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8238960" y="2541960"/>
                  <a:ext cx="234720" cy="433080"/>
                  <a:chOff x="8238960" y="2541960"/>
                  <a:chExt cx="234720" cy="43308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8321400" y="2541960"/>
                    <a:ext cx="152280" cy="228600"/>
                    <a:chOff x="8321400" y="2541960"/>
                    <a:chExt cx="152280" cy="22860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flipH="1" rot="20226000">
                      <a:off x="8360280" y="2547360"/>
                      <a:ext cx="734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565800">
                      <a:off x="8333640" y="2556720"/>
                      <a:ext cx="8172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3" h="425">
                          <a:moveTo>
                            <a:pt x="90" y="38"/>
                          </a:moveTo>
                          <a:cubicBezTo>
                            <a:pt x="66" y="55"/>
                            <a:pt x="33" y="80"/>
                            <a:pt x="19" y="107"/>
                          </a:cubicBezTo>
                          <a:cubicBezTo>
                            <a:pt x="4" y="132"/>
                            <a:pt x="0" y="164"/>
                            <a:pt x="6" y="192"/>
                          </a:cubicBezTo>
                          <a:cubicBezTo>
                            <a:pt x="10" y="219"/>
                            <a:pt x="24" y="239"/>
                            <a:pt x="47" y="275"/>
                          </a:cubicBezTo>
                          <a:cubicBezTo>
                            <a:pt x="70" y="309"/>
                            <a:pt x="120" y="383"/>
                            <a:pt x="144" y="405"/>
                          </a:cubicBezTo>
                          <a:cubicBezTo>
                            <a:pt x="166" y="425"/>
                            <a:pt x="149" y="419"/>
                            <a:pt x="183" y="402"/>
                          </a:cubicBezTo>
                          <a:cubicBezTo>
                            <a:pt x="217" y="384"/>
                            <a:pt x="308" y="319"/>
                            <a:pt x="344" y="296"/>
                          </a:cubicBezTo>
                          <a:cubicBezTo>
                            <a:pt x="379" y="272"/>
                            <a:pt x="388" y="268"/>
                            <a:pt x="396" y="259"/>
                          </a:cubicBezTo>
                          <a:cubicBezTo>
                            <a:pt x="403" y="249"/>
                            <a:pt x="394" y="247"/>
                            <a:pt x="390" y="237"/>
                          </a:cubicBezTo>
                          <a:cubicBezTo>
                            <a:pt x="385" y="226"/>
                            <a:pt x="381" y="220"/>
                            <a:pt x="370" y="197"/>
                          </a:cubicBezTo>
                          <a:cubicBezTo>
                            <a:pt x="358" y="173"/>
                            <a:pt x="337" y="124"/>
                            <a:pt x="319" y="96"/>
                          </a:cubicBezTo>
                          <a:cubicBezTo>
                            <a:pt x="300" y="67"/>
                            <a:pt x="285" y="38"/>
                            <a:pt x="259" y="23"/>
                          </a:cubicBezTo>
                          <a:cubicBezTo>
                            <a:pt x="232" y="7"/>
                            <a:pt x="189" y="0"/>
                            <a:pt x="160" y="4"/>
                          </a:cubicBezTo>
                          <a:cubicBezTo>
                            <a:pt x="131" y="7"/>
                            <a:pt x="113" y="20"/>
                            <a:pt x="90" y="3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960" bIns="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" name=""/>
                  <p:cNvSpPr/>
                  <p:nvPr/>
                </p:nvSpPr>
                <p:spPr>
                  <a:xfrm flipH="1" flipV="1" rot="1369200">
                    <a:off x="8357040" y="2751480"/>
                    <a:ext cx="727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V="1" rot="2199000">
                    <a:off x="8298000" y="2735280"/>
                    <a:ext cx="759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19448400">
                    <a:off x="8295480" y="2555640"/>
                    <a:ext cx="74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rot="177000">
                    <a:off x="8390160" y="2728800"/>
                    <a:ext cx="61560" cy="4428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7769520" y="2555280"/>
                  <a:ext cx="214920" cy="439560"/>
                  <a:chOff x="7769520" y="2555280"/>
                  <a:chExt cx="214920" cy="439560"/>
                </a:xfrm>
              </p:grpSpPr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7769520" y="2555280"/>
                    <a:ext cx="133920" cy="228960"/>
                    <a:chOff x="7769520" y="2555280"/>
                    <a:chExt cx="133920" cy="22896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 rot="846600">
                      <a:off x="7794720" y="2561040"/>
                      <a:ext cx="7488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rot="3716400">
                      <a:off x="7802280" y="2570760"/>
                      <a:ext cx="8568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421">
                          <a:moveTo>
                            <a:pt x="60" y="65"/>
                          </a:moveTo>
                          <a:cubicBezTo>
                            <a:pt x="41" y="87"/>
                            <a:pt x="15" y="120"/>
                            <a:pt x="8" y="149"/>
                          </a:cubicBezTo>
                          <a:cubicBezTo>
                            <a:pt x="0" y="177"/>
                            <a:pt x="4" y="209"/>
                            <a:pt x="16" y="235"/>
                          </a:cubicBezTo>
                          <a:cubicBezTo>
                            <a:pt x="27" y="260"/>
                            <a:pt x="45" y="276"/>
                            <a:pt x="76" y="305"/>
                          </a:cubicBezTo>
                          <a:cubicBezTo>
                            <a:pt x="107" y="333"/>
                            <a:pt x="174" y="392"/>
                            <a:pt x="202" y="407"/>
                          </a:cubicBezTo>
                          <a:cubicBezTo>
                            <a:pt x="229" y="421"/>
                            <a:pt x="211" y="420"/>
                            <a:pt x="240" y="395"/>
                          </a:cubicBezTo>
                          <a:cubicBezTo>
                            <a:pt x="268" y="369"/>
                            <a:pt x="341" y="285"/>
                            <a:pt x="370" y="253"/>
                          </a:cubicBezTo>
                          <a:cubicBezTo>
                            <a:pt x="398" y="220"/>
                            <a:pt x="407" y="209"/>
                            <a:pt x="414" y="197"/>
                          </a:cubicBezTo>
                          <a:cubicBezTo>
                            <a:pt x="420" y="184"/>
                            <a:pt x="412" y="187"/>
                            <a:pt x="406" y="179"/>
                          </a:cubicBezTo>
                          <a:cubicBezTo>
                            <a:pt x="399" y="170"/>
                            <a:pt x="392" y="163"/>
                            <a:pt x="374" y="145"/>
                          </a:cubicBezTo>
                          <a:cubicBezTo>
                            <a:pt x="355" y="126"/>
                            <a:pt x="321" y="87"/>
                            <a:pt x="296" y="65"/>
                          </a:cubicBezTo>
                          <a:cubicBezTo>
                            <a:pt x="270" y="42"/>
                            <a:pt x="249" y="17"/>
                            <a:pt x="220" y="9"/>
                          </a:cubicBezTo>
                          <a:cubicBezTo>
                            <a:pt x="190" y="0"/>
                            <a:pt x="147" y="4"/>
                            <a:pt x="120" y="15"/>
                          </a:cubicBezTo>
                          <a:cubicBezTo>
                            <a:pt x="92" y="25"/>
                            <a:pt x="78" y="42"/>
                            <a:pt x="60" y="65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9" name=""/>
                  <p:cNvSpPr/>
                  <p:nvPr/>
                </p:nvSpPr>
                <p:spPr>
                  <a:xfrm flipH="1" flipV="1" rot="19855200">
                    <a:off x="7861680" y="2769480"/>
                    <a:ext cx="74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flipH="1" rot="1599000">
                    <a:off x="7859520" y="2563560"/>
                    <a:ext cx="7416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V="1" rot="20697000">
                    <a:off x="7801560" y="2770920"/>
                    <a:ext cx="74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rot="16800">
                    <a:off x="7796520" y="2747880"/>
                    <a:ext cx="61560" cy="442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43" name=""/>
            <p:cNvSpPr/>
            <p:nvPr/>
          </p:nvSpPr>
          <p:spPr>
            <a:xfrm>
              <a:off x="7315200" y="1905120"/>
              <a:ext cx="609480" cy="3045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181480" y="1523880"/>
            <a:ext cx="2446560" cy="2034720"/>
            <a:chOff x="5181480" y="1523880"/>
            <a:chExt cx="2446560" cy="2034720"/>
          </a:xfrm>
        </p:grpSpPr>
        <p:grpSp>
          <p:nvGrpSpPr>
            <p:cNvPr id="745" name=""/>
            <p:cNvGrpSpPr/>
            <p:nvPr/>
          </p:nvGrpSpPr>
          <p:grpSpPr>
            <a:xfrm>
              <a:off x="5591160" y="1523880"/>
              <a:ext cx="2036880" cy="2034720"/>
              <a:chOff x="5591160" y="1523880"/>
              <a:chExt cx="2036880" cy="2034720"/>
            </a:xfrm>
          </p:grpSpPr>
          <p:sp>
            <p:nvSpPr>
              <p:cNvPr id="746" name=""/>
              <p:cNvSpPr/>
              <p:nvPr/>
            </p:nvSpPr>
            <p:spPr>
              <a:xfrm>
                <a:off x="5591160" y="3098880"/>
                <a:ext cx="20368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Metaphase I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7" name=""/>
              <p:cNvGrpSpPr/>
              <p:nvPr/>
            </p:nvGrpSpPr>
            <p:grpSpPr>
              <a:xfrm>
                <a:off x="5806800" y="1523880"/>
                <a:ext cx="1523880" cy="1676520"/>
                <a:chOff x="5806800" y="1523880"/>
                <a:chExt cx="1523880" cy="167652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5806800" y="1523880"/>
                  <a:ext cx="1523880" cy="167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9" name=""/>
                <p:cNvGrpSpPr/>
                <p:nvPr/>
              </p:nvGrpSpPr>
              <p:grpSpPr>
                <a:xfrm>
                  <a:off x="5914800" y="1695600"/>
                  <a:ext cx="1266840" cy="1352520"/>
                  <a:chOff x="5914800" y="1695600"/>
                  <a:chExt cx="1266840" cy="135252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>
                    <a:off x="5943600" y="2362320"/>
                    <a:ext cx="121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5943600" y="2232000"/>
                    <a:ext cx="1199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5914800" y="2664000"/>
                    <a:ext cx="12668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924520" y="1695600"/>
                    <a:ext cx="125100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946480" y="2441520"/>
                    <a:ext cx="120348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5943600" y="2014560"/>
                    <a:ext cx="12096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5946480" y="1839960"/>
                    <a:ext cx="120996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930640" y="2536920"/>
                    <a:ext cx="123372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6415200" y="1816200"/>
                  <a:ext cx="282240" cy="1243080"/>
                  <a:chOff x="6415200" y="1816200"/>
                  <a:chExt cx="282240" cy="124308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6415200" y="2399760"/>
                    <a:ext cx="167400" cy="659520"/>
                    <a:chOff x="6415200" y="2399760"/>
                    <a:chExt cx="167400" cy="65952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flipH="1" flipV="1" rot="21345600">
                      <a:off x="6493680" y="2583360"/>
                      <a:ext cx="71280" cy="47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flipH="1" rot="609600">
                      <a:off x="6498360" y="2403360"/>
                      <a:ext cx="615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 flipV="1" rot="254400">
                      <a:off x="6432840" y="2588040"/>
                      <a:ext cx="71280" cy="46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rot="20990400">
                      <a:off x="6436800" y="2406600"/>
                      <a:ext cx="6480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6470280" y="2589120"/>
                      <a:ext cx="61560" cy="4464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6491160" y="2399760"/>
                    <a:ext cx="167760" cy="659520"/>
                    <a:chOff x="6491160" y="2399760"/>
                    <a:chExt cx="167760" cy="6595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flipH="1" flipV="1" rot="21345600">
                      <a:off x="6570000" y="2583360"/>
                      <a:ext cx="71280" cy="47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flipH="1" rot="609600">
                      <a:off x="6574680" y="2403360"/>
                      <a:ext cx="6192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 flipV="1" rot="254400">
                      <a:off x="6508800" y="2588040"/>
                      <a:ext cx="71280" cy="46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rot="20990400">
                      <a:off x="6513120" y="240660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6546600" y="258912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6419160" y="1816200"/>
                    <a:ext cx="278280" cy="430560"/>
                    <a:chOff x="6419160" y="1816200"/>
                    <a:chExt cx="278280" cy="430560"/>
                  </a:xfrm>
                </p:grpSpPr>
                <p:grpSp>
                  <p:nvGrpSpPr>
                    <p:cNvPr id="772" name=""/>
                    <p:cNvGrpSpPr/>
                    <p:nvPr/>
                  </p:nvGrpSpPr>
                  <p:grpSpPr>
                    <a:xfrm>
                      <a:off x="6419160" y="1819800"/>
                      <a:ext cx="195120" cy="426960"/>
                      <a:chOff x="6419160" y="1819800"/>
                      <a:chExt cx="195120" cy="426960"/>
                    </a:xfrm>
                  </p:grpSpPr>
                  <p:grpSp>
                    <p:nvGrpSpPr>
                      <p:cNvPr id="773" name=""/>
                      <p:cNvGrpSpPr/>
                      <p:nvPr/>
                    </p:nvGrpSpPr>
                    <p:grpSpPr>
                      <a:xfrm>
                        <a:off x="6490800" y="1819800"/>
                        <a:ext cx="123480" cy="232200"/>
                        <a:chOff x="6490800" y="1819800"/>
                        <a:chExt cx="123480" cy="232200"/>
                      </a:xfrm>
                    </p:grpSpPr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flipH="1" rot="562200">
                          <a:off x="6507360" y="1830240"/>
                          <a:ext cx="73440" cy="217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1008">
                              <a:moveTo>
                                <a:pt x="56" y="1008"/>
                              </a:moveTo>
                              <a:cubicBezTo>
                                <a:pt x="40" y="1008"/>
                                <a:pt x="0" y="287"/>
                                <a:pt x="8" y="144"/>
                              </a:cubicBezTo>
                              <a:cubicBezTo>
                                <a:pt x="15" y="0"/>
                                <a:pt x="96" y="0"/>
                                <a:pt x="104" y="144"/>
                              </a:cubicBezTo>
                              <a:cubicBezTo>
                                <a:pt x="111" y="287"/>
                                <a:pt x="72" y="1008"/>
                                <a:pt x="56" y="100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0099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rot="2502000">
                          <a:off x="6513120" y="1836000"/>
                          <a:ext cx="82440" cy="86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3" h="425">
                              <a:moveTo>
                                <a:pt x="90" y="38"/>
                              </a:moveTo>
                              <a:cubicBezTo>
                                <a:pt x="66" y="55"/>
                                <a:pt x="33" y="80"/>
                                <a:pt x="19" y="107"/>
                              </a:cubicBezTo>
                              <a:cubicBezTo>
                                <a:pt x="4" y="132"/>
                                <a:pt x="0" y="164"/>
                                <a:pt x="6" y="192"/>
                              </a:cubicBezTo>
                              <a:cubicBezTo>
                                <a:pt x="10" y="219"/>
                                <a:pt x="24" y="239"/>
                                <a:pt x="47" y="275"/>
                              </a:cubicBezTo>
                              <a:cubicBezTo>
                                <a:pt x="70" y="309"/>
                                <a:pt x="120" y="383"/>
                                <a:pt x="144" y="405"/>
                              </a:cubicBezTo>
                              <a:cubicBezTo>
                                <a:pt x="166" y="425"/>
                                <a:pt x="149" y="419"/>
                                <a:pt x="183" y="402"/>
                              </a:cubicBezTo>
                              <a:cubicBezTo>
                                <a:pt x="217" y="384"/>
                                <a:pt x="308" y="319"/>
                                <a:pt x="344" y="296"/>
                              </a:cubicBezTo>
                              <a:cubicBezTo>
                                <a:pt x="379" y="272"/>
                                <a:pt x="388" y="268"/>
                                <a:pt x="396" y="259"/>
                              </a:cubicBezTo>
                              <a:cubicBezTo>
                                <a:pt x="403" y="249"/>
                                <a:pt x="394" y="247"/>
                                <a:pt x="390" y="237"/>
                              </a:cubicBezTo>
                              <a:cubicBezTo>
                                <a:pt x="385" y="226"/>
                                <a:pt x="381" y="220"/>
                                <a:pt x="370" y="197"/>
                              </a:cubicBezTo>
                              <a:cubicBezTo>
                                <a:pt x="358" y="173"/>
                                <a:pt x="337" y="124"/>
                                <a:pt x="319" y="96"/>
                              </a:cubicBezTo>
                              <a:cubicBezTo>
                                <a:pt x="300" y="67"/>
                                <a:pt x="285" y="38"/>
                                <a:pt x="259" y="23"/>
                              </a:cubicBezTo>
                              <a:cubicBezTo>
                                <a:pt x="232" y="7"/>
                                <a:pt x="189" y="0"/>
                                <a:pt x="160" y="4"/>
                              </a:cubicBezTo>
                              <a:cubicBezTo>
                                <a:pt x="131" y="7"/>
                                <a:pt x="113" y="20"/>
                                <a:pt x="90" y="3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960" bIns="39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76" name=""/>
                      <p:cNvSpPr/>
                      <p:nvPr/>
                    </p:nvSpPr>
                    <p:spPr>
                      <a:xfrm flipH="1" flipV="1" rot="21356400">
                        <a:off x="6498000" y="2026440"/>
                        <a:ext cx="73440" cy="21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7" name=""/>
                      <p:cNvSpPr/>
                      <p:nvPr/>
                    </p:nvSpPr>
                    <p:spPr>
                      <a:xfrm flipV="1" rot="597600">
                        <a:off x="6437160" y="2023560"/>
                        <a:ext cx="7524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 rot="21392400">
                        <a:off x="6447240" y="1830600"/>
                        <a:ext cx="74880" cy="21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 rot="177000">
                        <a:off x="6481440" y="2000880"/>
                        <a:ext cx="62280" cy="4464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80" name=""/>
                    <p:cNvGrpSpPr/>
                    <p:nvPr/>
                  </p:nvGrpSpPr>
                  <p:grpSpPr>
                    <a:xfrm>
                      <a:off x="6520680" y="1816200"/>
                      <a:ext cx="176760" cy="424440"/>
                      <a:chOff x="6520680" y="1816200"/>
                      <a:chExt cx="176760" cy="424440"/>
                    </a:xfrm>
                  </p:grpSpPr>
                  <p:grpSp>
                    <p:nvGrpSpPr>
                      <p:cNvPr id="781" name=""/>
                      <p:cNvGrpSpPr/>
                      <p:nvPr/>
                    </p:nvGrpSpPr>
                    <p:grpSpPr>
                      <a:xfrm>
                        <a:off x="6520680" y="1816200"/>
                        <a:ext cx="121320" cy="230400"/>
                        <a:chOff x="6520680" y="1816200"/>
                        <a:chExt cx="121320" cy="230400"/>
                      </a:xfrm>
                    </p:grpSpPr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 rot="21232800">
                          <a:off x="6550560" y="1825200"/>
                          <a:ext cx="75240" cy="21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1008">
                              <a:moveTo>
                                <a:pt x="56" y="1008"/>
                              </a:moveTo>
                              <a:cubicBezTo>
                                <a:pt x="40" y="1008"/>
                                <a:pt x="0" y="287"/>
                                <a:pt x="8" y="144"/>
                              </a:cubicBezTo>
                              <a:cubicBezTo>
                                <a:pt x="15" y="0"/>
                                <a:pt x="96" y="0"/>
                                <a:pt x="104" y="144"/>
                              </a:cubicBezTo>
                              <a:cubicBezTo>
                                <a:pt x="111" y="287"/>
                                <a:pt x="72" y="1008"/>
                                <a:pt x="56" y="100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 rot="2502000">
                          <a:off x="6538320" y="1833840"/>
                          <a:ext cx="86040" cy="86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0" h="421">
                              <a:moveTo>
                                <a:pt x="60" y="65"/>
                              </a:moveTo>
                              <a:cubicBezTo>
                                <a:pt x="41" y="87"/>
                                <a:pt x="15" y="120"/>
                                <a:pt x="8" y="149"/>
                              </a:cubicBezTo>
                              <a:cubicBezTo>
                                <a:pt x="0" y="177"/>
                                <a:pt x="4" y="209"/>
                                <a:pt x="16" y="235"/>
                              </a:cubicBezTo>
                              <a:cubicBezTo>
                                <a:pt x="27" y="260"/>
                                <a:pt x="45" y="276"/>
                                <a:pt x="76" y="305"/>
                              </a:cubicBezTo>
                              <a:cubicBezTo>
                                <a:pt x="107" y="333"/>
                                <a:pt x="174" y="392"/>
                                <a:pt x="202" y="407"/>
                              </a:cubicBezTo>
                              <a:cubicBezTo>
                                <a:pt x="229" y="421"/>
                                <a:pt x="211" y="420"/>
                                <a:pt x="240" y="395"/>
                              </a:cubicBezTo>
                              <a:cubicBezTo>
                                <a:pt x="268" y="369"/>
                                <a:pt x="341" y="285"/>
                                <a:pt x="370" y="253"/>
                              </a:cubicBezTo>
                              <a:cubicBezTo>
                                <a:pt x="398" y="220"/>
                                <a:pt x="407" y="209"/>
                                <a:pt x="414" y="197"/>
                              </a:cubicBezTo>
                              <a:cubicBezTo>
                                <a:pt x="420" y="184"/>
                                <a:pt x="412" y="187"/>
                                <a:pt x="406" y="179"/>
                              </a:cubicBezTo>
                              <a:cubicBezTo>
                                <a:pt x="399" y="170"/>
                                <a:pt x="392" y="163"/>
                                <a:pt x="374" y="145"/>
                              </a:cubicBezTo>
                              <a:cubicBezTo>
                                <a:pt x="355" y="126"/>
                                <a:pt x="321" y="87"/>
                                <a:pt x="296" y="65"/>
                              </a:cubicBezTo>
                              <a:cubicBezTo>
                                <a:pt x="270" y="42"/>
                                <a:pt x="249" y="17"/>
                                <a:pt x="220" y="9"/>
                              </a:cubicBezTo>
                              <a:cubicBezTo>
                                <a:pt x="190" y="0"/>
                                <a:pt x="147" y="4"/>
                                <a:pt x="120" y="15"/>
                              </a:cubicBezTo>
                              <a:cubicBezTo>
                                <a:pt x="92" y="25"/>
                                <a:pt x="78" y="42"/>
                                <a:pt x="60" y="65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0099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240" bIns="39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84" name=""/>
                      <p:cNvSpPr/>
                      <p:nvPr/>
                    </p:nvSpPr>
                    <p:spPr>
                      <a:xfrm flipH="1" flipV="1" rot="21196200">
                        <a:off x="6610320" y="2018520"/>
                        <a:ext cx="73440" cy="21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5" name=""/>
                      <p:cNvSpPr/>
                      <p:nvPr/>
                    </p:nvSpPr>
                    <p:spPr>
                      <a:xfrm flipH="1" rot="401400">
                        <a:off x="6611040" y="1822680"/>
                        <a:ext cx="7380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 flipV="1" rot="438000">
                        <a:off x="6549480" y="2018880"/>
                        <a:ext cx="7524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 rot="16800">
                        <a:off x="6588360" y="1994760"/>
                        <a:ext cx="62280" cy="44640"/>
                      </a:xfrm>
                      <a:prstGeom prst="ellipse">
                        <a:avLst/>
                      </a:pr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788" name=""/>
            <p:cNvSpPr/>
            <p:nvPr/>
          </p:nvSpPr>
          <p:spPr>
            <a:xfrm>
              <a:off x="5181480" y="1676520"/>
              <a:ext cx="76212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5029200" y="4343400"/>
            <a:ext cx="3611520" cy="1577880"/>
            <a:chOff x="5029200" y="4343400"/>
            <a:chExt cx="3611520" cy="1577880"/>
          </a:xfrm>
        </p:grpSpPr>
        <p:sp>
          <p:nvSpPr>
            <p:cNvPr id="790" name=""/>
            <p:cNvSpPr/>
            <p:nvPr/>
          </p:nvSpPr>
          <p:spPr>
            <a:xfrm>
              <a:off x="5983560" y="5095800"/>
              <a:ext cx="183420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elophase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7543800" y="4343400"/>
              <a:ext cx="1096920" cy="1295280"/>
              <a:chOff x="7543800" y="4343400"/>
              <a:chExt cx="1096920" cy="1295280"/>
            </a:xfrm>
          </p:grpSpPr>
          <p:sp>
            <p:nvSpPr>
              <p:cNvPr id="792" name=""/>
              <p:cNvSpPr/>
              <p:nvPr/>
            </p:nvSpPr>
            <p:spPr>
              <a:xfrm>
                <a:off x="7543800" y="4343400"/>
                <a:ext cx="109692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8060040" y="4720680"/>
                <a:ext cx="167760" cy="658440"/>
                <a:chOff x="8060040" y="4720680"/>
                <a:chExt cx="167760" cy="658440"/>
              </a:xfrm>
            </p:grpSpPr>
            <p:sp>
              <p:nvSpPr>
                <p:cNvPr id="794" name=""/>
                <p:cNvSpPr/>
                <p:nvPr/>
              </p:nvSpPr>
              <p:spPr>
                <a:xfrm flipH="1" flipV="1" rot="21345600">
                  <a:off x="8138880" y="4903920"/>
                  <a:ext cx="71280" cy="469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 rot="609600">
                  <a:off x="8143560" y="472428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V="1" rot="254400">
                  <a:off x="8077680" y="490860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20990400">
                  <a:off x="8082000" y="4727160"/>
                  <a:ext cx="65160" cy="2232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115480" y="4909680"/>
                  <a:ext cx="6192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7873920" y="4787280"/>
                <a:ext cx="195120" cy="427320"/>
                <a:chOff x="7873920" y="4787280"/>
                <a:chExt cx="195120" cy="42732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7945560" y="4787280"/>
                  <a:ext cx="123480" cy="232200"/>
                  <a:chOff x="7945560" y="4787280"/>
                  <a:chExt cx="123480" cy="23220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H="1" rot="562200">
                    <a:off x="7962120" y="4797720"/>
                    <a:ext cx="7344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rot="2502000">
                    <a:off x="7967880" y="4803480"/>
                    <a:ext cx="8244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5">
                        <a:moveTo>
                          <a:pt x="90" y="38"/>
                        </a:moveTo>
                        <a:cubicBezTo>
                          <a:pt x="66" y="55"/>
                          <a:pt x="33" y="80"/>
                          <a:pt x="19" y="107"/>
                        </a:cubicBezTo>
                        <a:cubicBezTo>
                          <a:pt x="4" y="132"/>
                          <a:pt x="0" y="164"/>
                          <a:pt x="6" y="192"/>
                        </a:cubicBezTo>
                        <a:cubicBezTo>
                          <a:pt x="10" y="219"/>
                          <a:pt x="24" y="239"/>
                          <a:pt x="47" y="275"/>
                        </a:cubicBezTo>
                        <a:cubicBezTo>
                          <a:pt x="70" y="309"/>
                          <a:pt x="120" y="383"/>
                          <a:pt x="144" y="405"/>
                        </a:cubicBezTo>
                        <a:cubicBezTo>
                          <a:pt x="166" y="425"/>
                          <a:pt x="149" y="419"/>
                          <a:pt x="183" y="402"/>
                        </a:cubicBezTo>
                        <a:cubicBezTo>
                          <a:pt x="217" y="384"/>
                          <a:pt x="308" y="319"/>
                          <a:pt x="344" y="296"/>
                        </a:cubicBezTo>
                        <a:cubicBezTo>
                          <a:pt x="379" y="272"/>
                          <a:pt x="388" y="268"/>
                          <a:pt x="396" y="259"/>
                        </a:cubicBezTo>
                        <a:cubicBezTo>
                          <a:pt x="403" y="249"/>
                          <a:pt x="394" y="247"/>
                          <a:pt x="390" y="237"/>
                        </a:cubicBezTo>
                        <a:cubicBezTo>
                          <a:pt x="385" y="226"/>
                          <a:pt x="381" y="220"/>
                          <a:pt x="370" y="197"/>
                        </a:cubicBezTo>
                        <a:cubicBezTo>
                          <a:pt x="358" y="173"/>
                          <a:pt x="337" y="124"/>
                          <a:pt x="319" y="96"/>
                        </a:cubicBezTo>
                        <a:cubicBezTo>
                          <a:pt x="300" y="67"/>
                          <a:pt x="285" y="38"/>
                          <a:pt x="259" y="23"/>
                        </a:cubicBezTo>
                        <a:cubicBezTo>
                          <a:pt x="232" y="7"/>
                          <a:pt x="189" y="0"/>
                          <a:pt x="160" y="4"/>
                        </a:cubicBezTo>
                        <a:cubicBezTo>
                          <a:pt x="131" y="7"/>
                          <a:pt x="113" y="20"/>
                          <a:pt x="90" y="3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"/>
                <p:cNvSpPr/>
                <p:nvPr/>
              </p:nvSpPr>
              <p:spPr>
                <a:xfrm flipH="1" flipV="1" rot="21356400">
                  <a:off x="7952400" y="4994280"/>
                  <a:ext cx="73440" cy="217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V="1" rot="597600">
                  <a:off x="7891920" y="4991040"/>
                  <a:ext cx="752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rot="21392400">
                  <a:off x="7901640" y="4798080"/>
                  <a:ext cx="74880" cy="217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177000">
                  <a:off x="7936200" y="4968720"/>
                  <a:ext cx="62280" cy="44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7" name=""/>
            <p:cNvGrpSpPr/>
            <p:nvPr/>
          </p:nvGrpSpPr>
          <p:grpSpPr>
            <a:xfrm>
              <a:off x="5029200" y="4343400"/>
              <a:ext cx="1096920" cy="1295280"/>
              <a:chOff x="5029200" y="4343400"/>
              <a:chExt cx="1096920" cy="1295280"/>
            </a:xfrm>
          </p:grpSpPr>
          <p:sp>
            <p:nvSpPr>
              <p:cNvPr id="808" name=""/>
              <p:cNvSpPr/>
              <p:nvPr/>
            </p:nvSpPr>
            <p:spPr>
              <a:xfrm>
                <a:off x="5029200" y="4343400"/>
                <a:ext cx="109692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5545440" y="4720680"/>
                <a:ext cx="167400" cy="658440"/>
                <a:chOff x="5545440" y="4720680"/>
                <a:chExt cx="167400" cy="658440"/>
              </a:xfrm>
            </p:grpSpPr>
            <p:sp>
              <p:nvSpPr>
                <p:cNvPr id="810" name=""/>
                <p:cNvSpPr/>
                <p:nvPr/>
              </p:nvSpPr>
              <p:spPr>
                <a:xfrm flipH="1" flipV="1" rot="21345600">
                  <a:off x="5623920" y="4903920"/>
                  <a:ext cx="71280" cy="469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rot="609600">
                  <a:off x="5628960" y="4724280"/>
                  <a:ext cx="615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V="1" rot="254400">
                  <a:off x="5563080" y="490860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rot="20990400">
                  <a:off x="5567040" y="472716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600520" y="490968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5355360" y="4864680"/>
                <a:ext cx="176040" cy="423720"/>
                <a:chOff x="5355360" y="4864680"/>
                <a:chExt cx="176040" cy="423720"/>
              </a:xfrm>
            </p:grpSpPr>
            <p:grpSp>
              <p:nvGrpSpPr>
                <p:cNvPr id="816" name=""/>
                <p:cNvGrpSpPr/>
                <p:nvPr/>
              </p:nvGrpSpPr>
              <p:grpSpPr>
                <a:xfrm>
                  <a:off x="5355360" y="4864680"/>
                  <a:ext cx="121320" cy="230040"/>
                  <a:chOff x="5355360" y="4864680"/>
                  <a:chExt cx="121320" cy="23004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rot="21232800">
                    <a:off x="5384880" y="4873680"/>
                    <a:ext cx="75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rot="2502000">
                    <a:off x="5373000" y="4881960"/>
                    <a:ext cx="8568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421">
                        <a:moveTo>
                          <a:pt x="60" y="65"/>
                        </a:moveTo>
                        <a:cubicBezTo>
                          <a:pt x="41" y="87"/>
                          <a:pt x="15" y="120"/>
                          <a:pt x="8" y="149"/>
                        </a:cubicBezTo>
                        <a:cubicBezTo>
                          <a:pt x="0" y="177"/>
                          <a:pt x="4" y="209"/>
                          <a:pt x="16" y="235"/>
                        </a:cubicBezTo>
                        <a:cubicBezTo>
                          <a:pt x="27" y="260"/>
                          <a:pt x="45" y="276"/>
                          <a:pt x="76" y="305"/>
                        </a:cubicBezTo>
                        <a:cubicBezTo>
                          <a:pt x="107" y="333"/>
                          <a:pt x="174" y="392"/>
                          <a:pt x="202" y="407"/>
                        </a:cubicBezTo>
                        <a:cubicBezTo>
                          <a:pt x="229" y="421"/>
                          <a:pt x="211" y="420"/>
                          <a:pt x="240" y="395"/>
                        </a:cubicBezTo>
                        <a:cubicBezTo>
                          <a:pt x="268" y="369"/>
                          <a:pt x="341" y="285"/>
                          <a:pt x="370" y="253"/>
                        </a:cubicBezTo>
                        <a:cubicBezTo>
                          <a:pt x="398" y="220"/>
                          <a:pt x="407" y="209"/>
                          <a:pt x="414" y="197"/>
                        </a:cubicBezTo>
                        <a:cubicBezTo>
                          <a:pt x="420" y="184"/>
                          <a:pt x="412" y="187"/>
                          <a:pt x="406" y="179"/>
                        </a:cubicBezTo>
                        <a:cubicBezTo>
                          <a:pt x="399" y="170"/>
                          <a:pt x="392" y="163"/>
                          <a:pt x="374" y="145"/>
                        </a:cubicBezTo>
                        <a:cubicBezTo>
                          <a:pt x="355" y="126"/>
                          <a:pt x="321" y="87"/>
                          <a:pt x="296" y="65"/>
                        </a:cubicBezTo>
                        <a:cubicBezTo>
                          <a:pt x="270" y="42"/>
                          <a:pt x="249" y="17"/>
                          <a:pt x="220" y="9"/>
                        </a:cubicBezTo>
                        <a:cubicBezTo>
                          <a:pt x="190" y="0"/>
                          <a:pt x="147" y="4"/>
                          <a:pt x="120" y="15"/>
                        </a:cubicBezTo>
                        <a:cubicBezTo>
                          <a:pt x="92" y="25"/>
                          <a:pt x="78" y="42"/>
                          <a:pt x="60" y="65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9" name=""/>
                <p:cNvSpPr/>
                <p:nvPr/>
              </p:nvSpPr>
              <p:spPr>
                <a:xfrm flipH="1" flipV="1" rot="21196200">
                  <a:off x="5444640" y="5066640"/>
                  <a:ext cx="73440" cy="217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rot="401400">
                  <a:off x="5445000" y="4870800"/>
                  <a:ext cx="734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 rot="438000">
                  <a:off x="5383800" y="5067000"/>
                  <a:ext cx="752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16800">
                  <a:off x="5423040" y="5042880"/>
                  <a:ext cx="6228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3" name=""/>
          <p:cNvGrpSpPr/>
          <p:nvPr/>
        </p:nvGrpSpPr>
        <p:grpSpPr>
          <a:xfrm>
            <a:off x="6019920" y="3657600"/>
            <a:ext cx="1659960" cy="914400"/>
            <a:chOff x="6019920" y="3657600"/>
            <a:chExt cx="1659960" cy="914400"/>
          </a:xfrm>
        </p:grpSpPr>
        <p:sp>
          <p:nvSpPr>
            <p:cNvPr id="824" name=""/>
            <p:cNvSpPr/>
            <p:nvPr/>
          </p:nvSpPr>
          <p:spPr>
            <a:xfrm>
              <a:off x="6019920" y="3657600"/>
              <a:ext cx="144756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864" y="0"/>
                  </a:moveTo>
                  <a:cubicBezTo>
                    <a:pt x="863" y="72"/>
                    <a:pt x="863" y="144"/>
                    <a:pt x="720" y="240"/>
                  </a:cubicBezTo>
                  <a:cubicBezTo>
                    <a:pt x="576" y="335"/>
                    <a:pt x="288" y="455"/>
                    <a:pt x="0" y="576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56440" y="3984480"/>
              <a:ext cx="523440" cy="571680"/>
            </a:xfrm>
            <a:custGeom>
              <a:avLst/>
              <a:gdLst/>
              <a:ahLst/>
              <a:rect l="l" t="t" r="r" b="b"/>
              <a:pathLst>
                <a:path w="272" h="336">
                  <a:moveTo>
                    <a:pt x="80" y="0"/>
                  </a:moveTo>
                  <a:cubicBezTo>
                    <a:pt x="40" y="68"/>
                    <a:pt x="0" y="136"/>
                    <a:pt x="32" y="192"/>
                  </a:cubicBezTo>
                  <a:cubicBezTo>
                    <a:pt x="63" y="247"/>
                    <a:pt x="167" y="291"/>
                    <a:pt x="272" y="336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380880" y="5257800"/>
            <a:ext cx="42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use of crossing over, every gamete receives a unique set of genetic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ossing 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rot="20793600">
            <a:off x="1142640" y="1371600"/>
            <a:ext cx="380880" cy="1066680"/>
          </a:xfrm>
          <a:prstGeom prst="downArrow">
            <a:avLst>
              <a:gd name="adj1" fmla="val 50000"/>
              <a:gd name="adj2" fmla="val 700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31480" y="685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Site of cross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is called chias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each diagram showing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2602080" cy="30481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3"/>
          <a:stretch/>
        </p:blipFill>
        <p:spPr>
          <a:xfrm>
            <a:off x="2895480" y="1600200"/>
            <a:ext cx="2935440" cy="452592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4"/>
          <a:stretch/>
        </p:blipFill>
        <p:spPr>
          <a:xfrm>
            <a:off x="5938920" y="1600200"/>
            <a:ext cx="3052800" cy="449568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5"/>
          <a:stretch/>
        </p:blipFill>
        <p:spPr>
          <a:xfrm>
            <a:off x="2895480" y="1600200"/>
            <a:ext cx="2987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show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2500200"/>
            <a:ext cx="9144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tosis--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1447920" y="1508040"/>
            <a:ext cx="624816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f you got paid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1 sen per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week your pay dou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sen, 2 sen, 4 sen, 8 se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2, 4, 8, 16, 32, 64, RM 1.28, 2.56, 5.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10.24, 20.48, 40.86, 81.72, 163.44, 326.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315440" y="685800"/>
            <a:ext cx="623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eometric Pro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iotic 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owth 1 (G1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ediately follows cytokinesi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active period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 of prote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of the 46 human chromosomes consists of a single (very long) molecule of 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is point cells ar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6,2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dentical to somatic cell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Synthesis (S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tic material is replicate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of its chromosomes duplicates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6,2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ll is still diploid, however, because it still contains the same number of centrome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matids are in the chromatin form because spiralisation and condensation into denser chromosomes have not taken place y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owth 2 (G2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2 phase is absent in Meiosi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could you explain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our ques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 short explanation as you would for someone who does NOT know about meiosi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science vocabulary for now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5-10 sentences—try to be brie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4952880"/>
            <a:ext cx="7467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ertil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467480" cy="3627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638680" y="4952880"/>
            <a:ext cx="2514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9400" y="5092560"/>
            <a:ext cx="1809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yg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76920"/>
            <a:ext cx="4724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98760" y="528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5029200"/>
            <a:ext cx="4343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4640" y="432756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exual reproduction, reproductive cells combine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ale — ovum, male — sp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happen if the reproductive cells each had the same number of chromosomes as the parent’s body cel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is Leads To A Que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419720"/>
            <a:ext cx="75438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 we begin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’s review the stages of cell division as we already know the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o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are the stages of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19320" y="-565200"/>
            <a:ext cx="6913440" cy="7467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934320" y="4191120"/>
            <a:ext cx="1143000" cy="167616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1143000" cy="1600200"/>
          </a:xfrm>
          <a:prstGeom prst="rect">
            <a:avLst/>
          </a:prstGeom>
          <a:noFill/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304920"/>
            <a:ext cx="1143000" cy="152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533520"/>
            <a:ext cx="1066680" cy="129528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905120"/>
            <a:ext cx="4343400" cy="14475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1981080"/>
            <a:ext cx="4663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cc00cc"/>
                </a:solidFill>
                <a:latin typeface="Tahoma"/>
              </a:rPr>
              <a:t>Mitosis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06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de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1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de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476280"/>
            <a:ext cx="1276200" cy="2495520"/>
            <a:chOff x="457200" y="476280"/>
            <a:chExt cx="1276200" cy="249552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1425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60400" y="4762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28800" y="471600"/>
            <a:ext cx="1276200" cy="2500200"/>
            <a:chOff x="1828800" y="471600"/>
            <a:chExt cx="1276200" cy="250020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15141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249640" y="47160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200400" y="439560"/>
            <a:ext cx="1276200" cy="2532240"/>
            <a:chOff x="3200400" y="439560"/>
            <a:chExt cx="1276200" cy="25322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8857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649680" y="43956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72000" y="455760"/>
            <a:ext cx="1276200" cy="2516040"/>
            <a:chOff x="4572000" y="455760"/>
            <a:chExt cx="1276200" cy="2516040"/>
          </a:xfrm>
        </p:grpSpPr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42573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944240" y="4557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943600" y="455760"/>
            <a:ext cx="1276200" cy="2516040"/>
            <a:chOff x="5943600" y="455760"/>
            <a:chExt cx="1276200" cy="2516040"/>
          </a:xfrm>
        </p:grpSpPr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56289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404040" y="455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315200" y="487440"/>
            <a:ext cx="1276200" cy="2484360"/>
            <a:chOff x="7315200" y="487440"/>
            <a:chExt cx="1276200" cy="2484360"/>
          </a:xfrm>
        </p:grpSpPr>
        <p:pic>
          <p:nvPicPr>
            <p:cNvPr id="130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70005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758720" y="4874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340760" y="3378240"/>
            <a:ext cx="1276200" cy="2495520"/>
            <a:chOff x="7340760" y="3378240"/>
            <a:chExt cx="1276200" cy="2495520"/>
          </a:xfrm>
        </p:grpSpPr>
        <p:pic>
          <p:nvPicPr>
            <p:cNvPr id="133" name="" descr=""/>
            <p:cNvPicPr/>
            <p:nvPr/>
          </p:nvPicPr>
          <p:blipFill>
            <a:blip r:embed="rId8"/>
            <a:stretch/>
          </p:blipFill>
          <p:spPr>
            <a:xfrm rot="16200000">
              <a:off x="7026120" y="428292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743960" y="337824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844640" y="3367080"/>
            <a:ext cx="1276200" cy="2500200"/>
            <a:chOff x="1844640" y="3367080"/>
            <a:chExt cx="1276200" cy="2500200"/>
          </a:xfrm>
        </p:grpSpPr>
        <p:pic>
          <p:nvPicPr>
            <p:cNvPr id="136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1530000" y="42764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65480" y="336708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87840" y="3336840"/>
            <a:ext cx="1276200" cy="2532240"/>
            <a:chOff x="4587840" y="3336840"/>
            <a:chExt cx="1276200" cy="2532240"/>
          </a:xfrm>
        </p:grpSpPr>
        <p:pic>
          <p:nvPicPr>
            <p:cNvPr id="139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4273200" y="42782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037120" y="333684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7200" y="3381480"/>
            <a:ext cx="1276200" cy="2516040"/>
            <a:chOff x="457200" y="3381480"/>
            <a:chExt cx="1276200" cy="25160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 rot="16200000">
              <a:off x="142560" y="430668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29440" y="33814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222720" y="3351240"/>
            <a:ext cx="1276200" cy="2516040"/>
            <a:chOff x="3222720" y="3351240"/>
            <a:chExt cx="1276200" cy="2516040"/>
          </a:xfrm>
        </p:grpSpPr>
        <p:pic>
          <p:nvPicPr>
            <p:cNvPr id="145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2908080" y="42764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683160" y="33512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952960" y="3378240"/>
            <a:ext cx="1276200" cy="2484360"/>
            <a:chOff x="5952960" y="3378240"/>
            <a:chExt cx="1276200" cy="2484360"/>
          </a:xfrm>
        </p:grpSpPr>
        <p:pic>
          <p:nvPicPr>
            <p:cNvPr id="148" name="" descr=""/>
            <p:cNvPicPr/>
            <p:nvPr/>
          </p:nvPicPr>
          <p:blipFill>
            <a:blip r:embed="rId13"/>
            <a:stretch/>
          </p:blipFill>
          <p:spPr>
            <a:xfrm rot="16200000">
              <a:off x="5638320" y="42717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396480" y="33782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08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14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1516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066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95880" y="990720"/>
            <a:ext cx="1314720" cy="1904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64832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320040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0492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1752480" y="990720"/>
            <a:ext cx="1314720" cy="1904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7543800" y="990720"/>
            <a:ext cx="13143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9800" y="4176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22560" y="4129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49680" y="3808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28560" y="396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40480" y="396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6840" y="4287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648320" y="3505320"/>
            <a:ext cx="1314360" cy="2429280"/>
            <a:chOff x="4648320" y="3505320"/>
            <a:chExt cx="1314360" cy="2429280"/>
          </a:xfrm>
        </p:grpSpPr>
        <p:pic>
          <p:nvPicPr>
            <p:cNvPr id="171" name="" descr=""/>
            <p:cNvPicPr/>
            <p:nvPr/>
          </p:nvPicPr>
          <p:blipFill>
            <a:blip r:embed="rId8"/>
            <a:stretch/>
          </p:blipFill>
          <p:spPr>
            <a:xfrm rot="16200000">
              <a:off x="435276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083560" y="535320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95880" y="3505320"/>
            <a:ext cx="1314360" cy="2424600"/>
            <a:chOff x="6095880" y="3505320"/>
            <a:chExt cx="1314360" cy="2424600"/>
          </a:xfrm>
        </p:grpSpPr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580032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65600" y="534852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00400" y="3505320"/>
            <a:ext cx="1314360" cy="2392560"/>
            <a:chOff x="3200400" y="3505320"/>
            <a:chExt cx="1314360" cy="2392560"/>
          </a:xfrm>
        </p:grpSpPr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290484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649320" y="531648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752480" y="3505320"/>
            <a:ext cx="1314360" cy="2408760"/>
            <a:chOff x="1752480" y="3505320"/>
            <a:chExt cx="1314360" cy="2408760"/>
          </a:xfrm>
        </p:grpSpPr>
        <p:pic>
          <p:nvPicPr>
            <p:cNvPr id="180" name="" descr=""/>
            <p:cNvPicPr/>
            <p:nvPr/>
          </p:nvPicPr>
          <p:blipFill>
            <a:blip r:embed="rId11"/>
            <a:stretch/>
          </p:blipFill>
          <p:spPr>
            <a:xfrm rot="16200000">
              <a:off x="145692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232720" y="53326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85840" y="3505320"/>
            <a:ext cx="1314360" cy="2408760"/>
            <a:chOff x="285840" y="3505320"/>
            <a:chExt cx="1314360" cy="2408760"/>
          </a:xfrm>
        </p:grpSpPr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-936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30080" y="5332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543800" y="3505320"/>
            <a:ext cx="1314360" cy="2440440"/>
            <a:chOff x="7543800" y="3505320"/>
            <a:chExt cx="1314360" cy="2440440"/>
          </a:xfrm>
        </p:grpSpPr>
        <p:pic>
          <p:nvPicPr>
            <p:cNvPr id="186" name="" descr=""/>
            <p:cNvPicPr/>
            <p:nvPr/>
          </p:nvPicPr>
          <p:blipFill>
            <a:blip r:embed="rId13"/>
            <a:stretch/>
          </p:blipFill>
          <p:spPr>
            <a:xfrm rot="16200000">
              <a:off x="724824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26480" y="536436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9236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3992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8784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3576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8332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9144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410080"/>
            <a:ext cx="383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3800" y="2013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0:46:52Z</dcterms:created>
  <dc:creator>Ed Robeck</dc:creator>
  <dc:description/>
  <dc:language>en-US</dc:language>
  <cp:lastModifiedBy>Ed Robeck</cp:lastModifiedBy>
  <dcterms:modified xsi:type="dcterms:W3CDTF">2008-04-23T00:40:09Z</dcterms:modified>
  <cp:revision>12</cp:revision>
  <dc:subject/>
  <dc:title>More On Cell Division</dc:title>
</cp:coreProperties>
</file>